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2B01E-C527-43D5-9DAF-62B36346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0BF2F-F257-45CC-B767-16D3D4B7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EE82C-36B6-4027-A422-55F65190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DB6E1-0D2D-47DB-9D2F-625A332C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D77A-C3E9-4B3E-9D01-C72A3159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F353-C7C5-44CC-98B0-CE8FD514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DEAA-DDCC-4C3C-A1D5-AA7161E3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28BF-378B-49CA-8EDC-1E86AB5A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8A66-301E-4246-B7FA-159352DE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763F-7D6E-4ECC-846F-81246128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7C21-A978-4185-8C64-317EB3BA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B9868-84F9-4BB4-95C3-9DB445F9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D9A9-9CBD-43BE-A732-13BD1CDB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9542-E9EA-46FE-AECA-75B808E9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D86A-D963-4923-9DCF-5BDF38C8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6E96-A5D3-4B53-893F-C911EF21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2CA1-DB4B-44C4-A115-97D46B37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FC4D9-00EE-4F08-BECA-3F220EB9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D5B4C-A0D0-4380-9378-350510F3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B4BBD-FBF0-430C-85EB-7F06F1DF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CF6A7-069F-493C-9BB0-42E11487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A2D62-2DC3-4FA6-B9DD-EE8A266F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CB1C4-8299-4D9A-AE13-8E49D226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DB796-19AB-4946-BD11-76103026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7F270-7F68-4F9F-84F8-E8909EC7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A2C7D-259F-48CA-8339-02AE07D3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0D595-C19F-4088-AA32-0CBAD955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23669A-08E8-460F-AB8A-B12BBCB9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35DC1-E5E5-4728-8168-7958D096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A172A-BFA1-4E56-8683-9E6F6DA6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E48C9-97CF-445B-B453-509AD6DF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3AA72-8800-4816-A1DD-A339104E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556B5-8D36-4F8A-83E9-44FB2DC6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89FCC-2E08-48C3-B66D-86C97809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E292C-E93E-4E2C-8A36-9B9FB92A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0A33D-901C-43FE-8429-CCB7E172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0E305-EC16-4314-9A9B-22C6D1BF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C90A8-91C1-4177-8517-EEF58F16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C9916-BEB5-4293-8A00-6576FE65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1620D-B15A-4F90-811B-6A6E9BDF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11EBE-A06C-4671-A10C-10428E98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5F45F-2D68-4F77-808A-9AE7476C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D7D8C-5676-4A97-BEBD-D5FF01B2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CC161-07ED-4C80-8A59-AE3B9876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9C655-AA02-4A67-8B2D-06268ED9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944A7-F904-4972-8AA7-70FD8B61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ACA0F-70E5-4C8A-8FB5-192C4289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95D52-0A3B-4FBA-8329-714658DD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F0D23-184E-4FE5-9493-B80B4479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C7836-6BF0-4998-9431-C4F7B6D5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97671-00B3-4161-BAC7-F7CB9A01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24D14-EBD4-4F69-9894-E4F2365F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E32CC-FCBD-4FD4-996A-4B11386F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5862F-D8A8-4276-8624-DBCD3F61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9C66D-4454-4D23-96A0-F58C93E4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F619-7C1A-4058-8576-B60CF46E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3DAB6-DC8C-43CD-9105-C5A1CB80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FED32-C0F6-41D5-BF11-B5414281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60112-52E9-40EF-8E04-8FDBD076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D99A8-2E0F-4D79-B509-245C3929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6F207-C1A7-4664-BA27-900FD133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E3650-60DF-4B80-8209-3CE0EB8C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60E5A-6643-4BFF-92AD-C9C3C3EB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8F252-24E0-4189-AD3D-8BB41779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F57B1-9214-4B6D-823C-99C5B93F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9A6F2-4127-4BE0-A2DB-5D9AA1A7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02F0D-FAAA-454C-AB84-DD860355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358CD-C7F7-4387-8AB2-57AD20D3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81DAB-FA88-4A7D-9F35-AA900C88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CFFDA-3E25-40A5-A157-501BE91E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C3F52-4E78-42B3-A828-BC4E76BB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F46FD-5C45-474A-B331-1F591642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5F51F-2B59-4A33-B69B-8CE9B451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9725D-ADBF-4F69-B420-E3DA146A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D6246-51CA-4EEE-B5FE-572A55E6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91F33-D71D-4EB8-AF01-CE9317A1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92502-2D7D-4A68-89C5-2E75B42D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E15E4-6F86-4B2A-BB77-9F29E517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B198A-3F2B-470E-852E-43F1A7F5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180FB-BBAD-4CC0-B0AF-9EB3B9DC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92492-2CF6-426A-AD90-D3BA0CE4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658E5-4A3E-4F62-9A04-0FAB8B56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06B0E-23F1-4506-95A8-511EC8DD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13E8F-64A6-44A1-8F13-01498CAA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FD37-5EBB-476D-8AA0-20542F1E77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0F82-F41C-49E7-BE7C-EC24096792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ED99-A3D9-4354-854F-0EA5FF3F61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6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62A7-C27E-459D-996E-3A26974427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198F-8D4A-4D7D-ADA0-5BFA1529A0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2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273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6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39CE-5BCB-46A2-B5F3-4CDD4DC057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2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BBD8-6AC1-4FDE-90C3-93D1050A40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he Structure of Matter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ic Mod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atomic P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ces Within the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8" name="MacOS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02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02000"/>
                                </p:to>
                              </p:animCl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25617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02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utherford (1908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6019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osed dense, positively charged cent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ld Foil Experi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itive particles shot at gold foil occasionally bounced back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called th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movie in empty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s contain mostly empty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f the mass is in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4" descr="rutherford"/>
          <p:cNvPicPr/>
          <p:nvPr/>
        </p:nvPicPr>
        <p:blipFill>
          <a:blip r:embed="rId2"/>
          <a:stretch/>
        </p:blipFill>
        <p:spPr>
          <a:xfrm>
            <a:off x="6858000" y="304920"/>
            <a:ext cx="195588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768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768" fill="hold"/>
                                        <p:tgtEl>
                                          <p:spTgt spid="4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8" dur="768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0" dur="768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omson’s theo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10" name="Picture 4" descr="thomson"/>
          <p:cNvPicPr/>
          <p:nvPr/>
        </p:nvPicPr>
        <p:blipFill>
          <a:blip r:embed="rId2"/>
          <a:stretch/>
        </p:blipFill>
        <p:spPr>
          <a:xfrm>
            <a:off x="1143000" y="1828800"/>
            <a:ext cx="3270240" cy="2057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2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4"/>
          <a:stretch/>
        </p:blipFill>
        <p:spPr>
          <a:xfrm>
            <a:off x="4038480" y="3581280"/>
            <a:ext cx="3994200" cy="2495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729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utherford’s rea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14" name="Picture 9" descr="rutherford_exp"/>
          <p:cNvPicPr/>
          <p:nvPr/>
        </p:nvPicPr>
        <p:blipFill>
          <a:blip r:embed="rId2"/>
          <a:stretch/>
        </p:blipFill>
        <p:spPr>
          <a:xfrm>
            <a:off x="685800" y="1981080"/>
            <a:ext cx="4191120" cy="35132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729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utherford’s ato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17" name="Picture 8" descr="ruthatom"/>
          <p:cNvPicPr/>
          <p:nvPr/>
        </p:nvPicPr>
        <p:blipFill>
          <a:blip r:embed="rId2"/>
          <a:stretch/>
        </p:blipFill>
        <p:spPr>
          <a:xfrm>
            <a:off x="228600" y="121932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4"/>
          <p:cNvSpPr/>
          <p:nvPr/>
        </p:nvSpPr>
        <p:spPr>
          <a:xfrm>
            <a:off x="3962520" y="51055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bSEOOMs5VNU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729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hr (1913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move in definite orbits around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s each electron in a specific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nergy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jump between levels from path to p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Picture 7" descr="Bohr"/>
          <p:cNvPicPr/>
          <p:nvPr/>
        </p:nvPicPr>
        <p:blipFill>
          <a:blip r:embed="rId2"/>
          <a:stretch/>
        </p:blipFill>
        <p:spPr>
          <a:xfrm>
            <a:off x="6477120" y="914400"/>
            <a:ext cx="2387520" cy="3174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68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68" fill="hold"/>
                                        <p:tgtEl>
                                          <p:spTgt spid="4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68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68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Bohr Ato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7" descr="Bohr model"/>
          <p:cNvPicPr/>
          <p:nvPr/>
        </p:nvPicPr>
        <p:blipFill>
          <a:blip r:embed="rId1"/>
          <a:stretch/>
        </p:blipFill>
        <p:spPr>
          <a:xfrm>
            <a:off x="1295280" y="1295280"/>
            <a:ext cx="7467840" cy="36925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2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4"/>
          <p:cNvSpPr/>
          <p:nvPr/>
        </p:nvSpPr>
        <p:spPr>
          <a:xfrm>
            <a:off x="1828800" y="5334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wCCz20JOXXk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729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chrodinger and Heisenberg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ve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rn model based on wave mechan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us is surrounded by electr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d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ve in orb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determin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bable loc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an electron based on the amoun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nerg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electron h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probable location is called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rbita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lectron clo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768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768" fill="hold"/>
                                        <p:tgtEl>
                                          <p:spTgt spid="4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768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768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5" descr="orbital_2px"/>
          <p:cNvPicPr/>
          <p:nvPr/>
        </p:nvPicPr>
        <p:blipFill>
          <a:blip r:embed="rId1"/>
          <a:stretch/>
        </p:blipFill>
        <p:spPr>
          <a:xfrm>
            <a:off x="2057400" y="380880"/>
            <a:ext cx="6248520" cy="57405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8" dur="4409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2286000" y="310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vUzTQWn-wfE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Part One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tomic models past and pres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atoms"/>
          <p:cNvPicPr/>
          <p:nvPr/>
        </p:nvPicPr>
        <p:blipFill>
          <a:blip r:embed="rId1"/>
          <a:stretch/>
        </p:blipFill>
        <p:spPr>
          <a:xfrm>
            <a:off x="1676520" y="1676520"/>
            <a:ext cx="5181480" cy="5054400"/>
          </a:xfrm>
          <a:prstGeom prst="rect">
            <a:avLst/>
          </a:prstGeom>
          <a:ln w="0">
            <a:noFill/>
          </a:ln>
        </p:spPr>
      </p:pic>
      <p:pic>
        <p:nvPicPr>
          <p:cNvPr id="382" name="MacOS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5617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Atomic Models Throughout Histor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k  (~400 B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lton (18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omson (189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therford (190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hr (191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Picture 5" descr="atom"/>
          <p:cNvPicPr/>
          <p:nvPr/>
        </p:nvPicPr>
        <p:blipFill>
          <a:blip r:embed="rId2"/>
          <a:stretch/>
        </p:blipFill>
        <p:spPr>
          <a:xfrm>
            <a:off x="396252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0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mocritus (~400 BC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os: indivisible or uncut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critus said the smallest piece of matter was an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ry wasn’t accepted for 2100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Picture 5" descr="democritus"/>
          <p:cNvPicPr/>
          <p:nvPr/>
        </p:nvPicPr>
        <p:blipFill>
          <a:blip r:embed="rId2"/>
          <a:stretch/>
        </p:blipFill>
        <p:spPr>
          <a:xfrm>
            <a:off x="6888240" y="0"/>
            <a:ext cx="225576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68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68" fill="hold"/>
                                        <p:tgtEl>
                                          <p:spTgt spid="3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68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5181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ristotle (~400 BC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thing is made up of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asic  eleme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e    Water   Air   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ings in the world are made up of different combinations of these four el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shadowed Democratus’ id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2"/>
          <a:stretch/>
        </p:blipFill>
        <p:spPr>
          <a:xfrm>
            <a:off x="5334120" y="3581280"/>
            <a:ext cx="3809880" cy="2756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3"/>
          <a:stretch/>
        </p:blipFill>
        <p:spPr>
          <a:xfrm>
            <a:off x="6318360" y="152280"/>
            <a:ext cx="2825640" cy="3391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68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68" fill="hold"/>
                                        <p:tgtEl>
                                          <p:spTgt spid="3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68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68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alton (1800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elements are composed of ato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were like hard sphere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are indivisible and indestruct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of the same element are exactly ali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of different elements are differ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ounds are formed by the joining of atoms of two or more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ed experiments combining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68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68" fill="hold"/>
                                        <p:tgtEl>
                                          <p:spTgt spid="3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5" descr="john_dalton"/>
          <p:cNvPicPr/>
          <p:nvPr/>
        </p:nvPicPr>
        <p:blipFill>
          <a:blip r:embed="rId1"/>
          <a:stretch/>
        </p:blipFill>
        <p:spPr>
          <a:xfrm>
            <a:off x="5715000" y="228600"/>
            <a:ext cx="2362320" cy="2476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Daltatom"/>
          <p:cNvPicPr/>
          <p:nvPr/>
        </p:nvPicPr>
        <p:blipFill>
          <a:blip r:embed="rId2"/>
          <a:stretch/>
        </p:blipFill>
        <p:spPr>
          <a:xfrm>
            <a:off x="228600" y="1676520"/>
            <a:ext cx="8381880" cy="38494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4"/>
          <p:cNvSpPr/>
          <p:nvPr/>
        </p:nvSpPr>
        <p:spPr>
          <a:xfrm>
            <a:off x="380880" y="57150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L2KmCTst2o0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411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omson (1897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04960" y="380880"/>
            <a:ext cx="5638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overed negatively charged p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om was divisibl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les discovered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um Pudding Model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 consists of positively charged material with negative charges spread evenly through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ed the cathode-ray tube experi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Picture 15" descr="JJthomson"/>
          <p:cNvPicPr/>
          <p:nvPr/>
        </p:nvPicPr>
        <p:blipFill>
          <a:blip r:embed="rId2"/>
          <a:stretch/>
        </p:blipFill>
        <p:spPr>
          <a:xfrm>
            <a:off x="-6480" y="1743120"/>
            <a:ext cx="3322800" cy="4438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68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68" fill="hold"/>
                                        <p:tgtEl>
                                          <p:spTgt spid="3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68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68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ere’s JJ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03" name="Picture 4" descr="thomson atom"/>
          <p:cNvPicPr/>
          <p:nvPr/>
        </p:nvPicPr>
        <p:blipFill>
          <a:blip r:embed="rId2"/>
          <a:stretch/>
        </p:blipFill>
        <p:spPr>
          <a:xfrm>
            <a:off x="304920" y="1676520"/>
            <a:ext cx="4952880" cy="48117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33412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um Pudding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5257800" y="30481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RW_zfKOU9uM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2:48:01Z</dcterms:created>
  <dc:creator>duser</dc:creator>
  <dc:description/>
  <dc:language>en-US</dc:language>
  <cp:lastModifiedBy>Teacher</cp:lastModifiedBy>
  <dcterms:modified xsi:type="dcterms:W3CDTF">2009-09-03T01:30:21Z</dcterms:modified>
  <cp:revision>39</cp:revision>
  <dc:subject/>
  <dc:title>The Structure of Matter</dc:title>
</cp:coreProperties>
</file>