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39F62-3722-48AC-AF5C-FD0B0E02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31C9-8B8F-4BF3-92E5-69471BE2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60AAF-F471-4EC2-9639-F4535C3C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0349-63D4-40EB-A38C-05AC27EF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3069-5202-46AC-AB8D-701A9FDF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E5A2-661C-4D1A-AD62-DDEF4163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0F53-B22B-4F57-83BE-3149CFD7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D2B4-B5DA-4888-A440-B2636E0B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C3F7-14CC-4767-8947-27C1B0E8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9A82-64C4-4252-87FE-090271BD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E66C-2482-4457-9982-20A93995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9D22-FD31-4D8B-832E-14774DEF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5542-BC86-40A0-B3FF-77A68F65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6604-F591-4C2A-AC25-DBDA7B6A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D3C9-1D19-45C4-840D-4C76AFF9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9C97-D752-40A4-8F62-303F4884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BE70-287D-41B2-85C2-BA01E9F0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7B10E-6964-44C2-8BE0-B6936876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95145-ECEB-4F4F-A198-B8F73684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4E24F-A2A1-4F43-B875-7541867E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7F617-66F3-4937-8BD9-9C2D7A74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6BFD7-25F5-41EB-81C5-A2F55933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2301D-96D1-4410-8A09-958DD018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0DA97-5BC8-4B01-B61A-883852B0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2A753-BA39-4D1B-83AE-01945F36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4EBA9-5765-4F88-B8E2-64D305A0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5EAD4-4E7B-48BD-9A14-FE605FA2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8DED4-8EDE-429B-B245-CFA083CA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F5FDA-C9A3-46D8-B765-9317AFB4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BABB9-02D0-4869-A092-8C06898C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71BBC-23A2-44D4-A9B0-79D5BA5F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B386C-BC2E-4C1A-8F08-FFD97039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67282-CE20-4233-90F7-C4231BB5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65B3-19BA-478A-BAD9-C2391B4B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540F1-686B-45DA-B055-916A807F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0DCEA-3051-48F4-911F-BFDC4464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78E10-20D8-436C-BB0F-9CE08423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29188-2CA7-4FAF-A1A4-ED783551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3FDA3-3586-4D13-A8BE-FF68C443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679FF-BADA-4ACD-9279-7D70012F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7F5B3-8903-4DC5-AA76-CF38DF06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F7ABB-67E9-48F1-BD54-0E2DE41E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93A4F-722D-40E5-AB39-A32005BB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E7F52-92A3-44BC-A797-BC007D40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85B0-CDA0-4D53-8378-620292DA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973D6-ED40-49D4-BD80-9BD4C191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1BC61-23D6-4C8C-9287-6EF104FE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6CC51-9BBF-4FB9-A84C-6C992CC4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10D66-A953-4D40-9551-5EACCE8E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FE1CF-787A-4321-B92E-F55B32EA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41C92-E8DB-4C69-AE00-B495F4A6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7E5C5-9366-4FE0-9B56-E314361A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24686-B74C-4939-A4CF-03196E4D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F6B94-54F5-45E7-9361-3E1227BE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642F3-1FB3-4026-A8A9-09A310F2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4FABC-7D4D-4B30-BB87-8563A611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53EDB-0322-404A-8C67-376863C9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212AF-57C9-4DB7-9EA9-14397416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0F598-DAC1-40FD-B103-E7E61B77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E2090-9DBA-4F09-A89E-10F862DA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9A677-1599-41E7-A0B7-71CF53DE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88BE1-CBE6-4280-823F-DECC251F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7850F-C2BC-4137-938E-3FCF0875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C1085-3933-4E23-BCB7-4134F2A3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FE6AE-5004-4F13-B482-CAF0DF8D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D98F2-7B9C-4B9F-B301-50DA9837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D923-A7B5-4AE4-B776-B3CE61DE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5F428-E65B-43DD-9C1F-AB202A29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C41FA-A047-4764-A868-AC0D897B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71B93-D03D-42AE-92FA-061FE12F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BC249-5F5F-47AB-A9BD-C8CC527E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A3225-F142-4A05-8166-0A50B2A4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C5440-FE9B-4167-A430-EDBD4CD9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6253F-8D70-4BBA-819E-DF56FC60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F29FC-EBEA-4199-8AC6-558DB0C2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9EB91-1F04-4C3F-B1B2-F9828AB8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D54F6-EA38-4D37-A633-24354A6F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BD28-345D-4ACE-9047-406172A1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DC24E-CD43-4D29-8B57-3E84E975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32CC2-CD6B-4485-BF55-C8A0DBDA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5A5F6-8B1C-43BB-8AF0-1B1162C2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90E3D-4782-4BE1-8311-CF8A2CE6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FE498-5DE8-4D2F-BEBD-5DD4A99E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114B-2BC2-4763-B8D3-2A480F59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096D-ABCB-4198-9FF1-AEC828077B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D165-AA07-49C1-B1F6-C8F4C80EAA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58F4-97FB-487D-8563-4D61A4DEBB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6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1490-969D-4A3C-91FB-4E06AE7BF2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D6F6-3043-42C0-8575-965D076EA4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2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73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6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37F2-F67B-44CF-9C51-8E41FE7083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2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84F4-F8C2-40E6-93D5-0B41D33C77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Structure of Matt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ic Mod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atomic P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s Within the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8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5617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utherford (1908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6019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ed dense, positively charged cen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ld Foil Experi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itive particles shot at gold foil occasionally bounced back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called th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movie in empty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contain mostly empty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the mass is in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rutherford"/>
          <p:cNvPicPr/>
          <p:nvPr/>
        </p:nvPicPr>
        <p:blipFill>
          <a:blip r:embed="rId2"/>
          <a:stretch/>
        </p:blipFill>
        <p:spPr>
          <a:xfrm>
            <a:off x="6858000" y="304920"/>
            <a:ext cx="195588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68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768" fill="hold"/>
                                        <p:tgtEl>
                                          <p:spTgt spid="4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768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omson’s theo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0" name="Picture 4" descr="thomson"/>
          <p:cNvPicPr/>
          <p:nvPr/>
        </p:nvPicPr>
        <p:blipFill>
          <a:blip r:embed="rId2"/>
          <a:stretch/>
        </p:blipFill>
        <p:spPr>
          <a:xfrm>
            <a:off x="1143000" y="1828800"/>
            <a:ext cx="3270240" cy="2057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4"/>
          <a:stretch/>
        </p:blipFill>
        <p:spPr>
          <a:xfrm>
            <a:off x="4038480" y="3581280"/>
            <a:ext cx="3994200" cy="2495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72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therford’s rea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4" name="Picture 9" descr="rutherford_exp"/>
          <p:cNvPicPr/>
          <p:nvPr/>
        </p:nvPicPr>
        <p:blipFill>
          <a:blip r:embed="rId2"/>
          <a:stretch/>
        </p:blipFill>
        <p:spPr>
          <a:xfrm>
            <a:off x="685800" y="198108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729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therford’s ato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7" name="Picture 8" descr="ruthatom"/>
          <p:cNvPicPr/>
          <p:nvPr/>
        </p:nvPicPr>
        <p:blipFill>
          <a:blip r:embed="rId2"/>
          <a:stretch/>
        </p:blipFill>
        <p:spPr>
          <a:xfrm>
            <a:off x="228600" y="121932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4"/>
          <p:cNvSpPr/>
          <p:nvPr/>
        </p:nvSpPr>
        <p:spPr>
          <a:xfrm>
            <a:off x="3962520" y="51055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bSEOOMs5VNU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729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hr (1913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move in definite orbits around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s each electron in a specific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nergy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jump between levels from path to p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Picture 7" descr="Bohr"/>
          <p:cNvPicPr/>
          <p:nvPr/>
        </p:nvPicPr>
        <p:blipFill>
          <a:blip r:embed="rId2"/>
          <a:stretch/>
        </p:blipFill>
        <p:spPr>
          <a:xfrm>
            <a:off x="6477120" y="914400"/>
            <a:ext cx="2387520" cy="317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8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8" fill="hold"/>
                                        <p:tgtEl>
                                          <p:spTgt spid="4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8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8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Bohr Ato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7" descr="Bohr model"/>
          <p:cNvPicPr/>
          <p:nvPr/>
        </p:nvPicPr>
        <p:blipFill>
          <a:blip r:embed="rId1"/>
          <a:stretch/>
        </p:blipFill>
        <p:spPr>
          <a:xfrm>
            <a:off x="1295280" y="1295280"/>
            <a:ext cx="7467840" cy="3692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4"/>
          <p:cNvSpPr/>
          <p:nvPr/>
        </p:nvSpPr>
        <p:spPr>
          <a:xfrm>
            <a:off x="1828800" y="5334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wCCz20JOXXk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729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chrodinger and Heisenberg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ve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rn model based on wave mechan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us is surrounded by electr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d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ve in orb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determin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bable loc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n electron based on the amoun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nerg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electron h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robable location is called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bit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lectron clo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68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68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68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68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5" descr="orbital_2px"/>
          <p:cNvPicPr/>
          <p:nvPr/>
        </p:nvPicPr>
        <p:blipFill>
          <a:blip r:embed="rId1"/>
          <a:stretch/>
        </p:blipFill>
        <p:spPr>
          <a:xfrm>
            <a:off x="2057400" y="380880"/>
            <a:ext cx="6248520" cy="5740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4409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2286000" y="310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vUzTQWn-wfE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Part On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omic models past and pres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atoms"/>
          <p:cNvPicPr/>
          <p:nvPr/>
        </p:nvPicPr>
        <p:blipFill>
          <a:blip r:embed="rId1"/>
          <a:stretch/>
        </p:blipFill>
        <p:spPr>
          <a:xfrm>
            <a:off x="1676520" y="1676520"/>
            <a:ext cx="5181480" cy="5054400"/>
          </a:xfrm>
          <a:prstGeom prst="rect">
            <a:avLst/>
          </a:prstGeom>
          <a:ln w="0">
            <a:noFill/>
          </a:ln>
        </p:spPr>
      </p:pic>
      <p:pic>
        <p:nvPicPr>
          <p:cNvPr id="382" name="MacOS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5617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Atomic Models Throughout Histor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k  (~400 B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ton (18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mson (189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therford (190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hr (191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5" descr="atom"/>
          <p:cNvPicPr/>
          <p:nvPr/>
        </p:nvPicPr>
        <p:blipFill>
          <a:blip r:embed="rId2"/>
          <a:stretch/>
        </p:blipFill>
        <p:spPr>
          <a:xfrm>
            <a:off x="396252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0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mocritus (~400 BC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os: indivisible or uncut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critus said the smallest piece of matter was an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 wasn’t accepted for 210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Picture 5" descr="democritus"/>
          <p:cNvPicPr/>
          <p:nvPr/>
        </p:nvPicPr>
        <p:blipFill>
          <a:blip r:embed="rId2"/>
          <a:stretch/>
        </p:blipFill>
        <p:spPr>
          <a:xfrm>
            <a:off x="6888240" y="0"/>
            <a:ext cx="225576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68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68" fill="hold"/>
                                        <p:tgtEl>
                                          <p:spTgt spid="3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5181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istotle (~400 BC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thing is made up of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asic  ele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    Water   Air   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ings in the world are made up of different combinations of these four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shadowed Democratus’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809880" cy="2756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3"/>
          <a:stretch/>
        </p:blipFill>
        <p:spPr>
          <a:xfrm>
            <a:off x="6318360" y="152280"/>
            <a:ext cx="2825640" cy="3391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68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68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6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6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alton (1800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elements are composed of at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were like hard spher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are indivisible and indestruct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of the same element are exactly ali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of different elements are differ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unds are formed by the joining of atoms of two or more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ed experiments combining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5" descr="john_dalton"/>
          <p:cNvPicPr/>
          <p:nvPr/>
        </p:nvPicPr>
        <p:blipFill>
          <a:blip r:embed="rId1"/>
          <a:stretch/>
        </p:blipFill>
        <p:spPr>
          <a:xfrm>
            <a:off x="5715000" y="228600"/>
            <a:ext cx="2362320" cy="2476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altatom"/>
          <p:cNvPicPr/>
          <p:nvPr/>
        </p:nvPicPr>
        <p:blipFill>
          <a:blip r:embed="rId2"/>
          <a:stretch/>
        </p:blipFill>
        <p:spPr>
          <a:xfrm>
            <a:off x="228600" y="1676520"/>
            <a:ext cx="8381880" cy="38494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380880" y="57150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L2KmCTst2o0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omson (1897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04960" y="380880"/>
            <a:ext cx="5638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ed negatively charged p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as divisibl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les discovered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um Pudding Model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 consists of positively charged material with negative charges spread evenly through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ed the cathode-ray tube experi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15" descr="JJthomson"/>
          <p:cNvPicPr/>
          <p:nvPr/>
        </p:nvPicPr>
        <p:blipFill>
          <a:blip r:embed="rId2"/>
          <a:stretch/>
        </p:blipFill>
        <p:spPr>
          <a:xfrm>
            <a:off x="-6480" y="1743120"/>
            <a:ext cx="3322800" cy="443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68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68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68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68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ere’s JJ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03" name="Picture 4" descr="thomson atom"/>
          <p:cNvPicPr/>
          <p:nvPr/>
        </p:nvPicPr>
        <p:blipFill>
          <a:blip r:embed="rId2"/>
          <a:stretch/>
        </p:blipFill>
        <p:spPr>
          <a:xfrm>
            <a:off x="304920" y="1676520"/>
            <a:ext cx="4952880" cy="48117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33412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um Pudding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5257800" y="30481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RW_zfKOU9uM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2:48:01Z</dcterms:created>
  <dc:creator>duser</dc:creator>
  <dc:description/>
  <dc:language>en-US</dc:language>
  <cp:lastModifiedBy>Teacher</cp:lastModifiedBy>
  <dcterms:modified xsi:type="dcterms:W3CDTF">2009-09-03T01:30:21Z</dcterms:modified>
  <cp:revision>39</cp:revision>
  <dc:subject/>
  <dc:title>The Structure of Matter</dc:title>
</cp:coreProperties>
</file>