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5A5D-B9E8-42E5-8CE4-56E6D4CB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567E-C4DF-48BA-832C-7730E2BF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AE9D-D012-40B4-9771-D5F17BAC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5DE6-1887-4116-9A28-8B1511B3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27EA-AE36-470E-86DB-8B5E9B8F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4945-D5F5-4C78-B484-1E17302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7D60-79C1-4C28-A35C-C83EF69D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F680-9CC1-445D-A19C-2DB953FB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C952-F89E-4929-80BE-542773C9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149-CEDB-4EE2-8B62-CCB08EA2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89C1-1683-4E9A-B7FA-FC9E8CF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284E-B628-4EE1-8F13-9BD468E2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56E7-1160-49CB-9EF3-158D4BE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6285-007D-41F2-B4DB-044F3A3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B881-6351-493B-8D71-910BF75C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AA83-2BA7-4F15-A457-17E1B842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8586-1F69-4B9C-A93F-398F5F81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525BB-8B8C-4314-A7E7-EF0064B8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9D0E8-F12C-4DC2-ADF6-73F805B7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38A0F-8290-4CFF-9C4C-B7986751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C657F-F33A-4EE1-B7E1-5783822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637C7-0E0F-424A-9AE8-7CBF0AA5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A91C-6FBA-4985-94E1-A977B3A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BBB9B-4532-4669-8897-043232AA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239A4-87E1-4F78-A05A-C5B34D4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561A6-D891-414E-A02F-31743A12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4F456-3585-4206-8DD2-0B4DA55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7D581-60E3-4F37-B64E-E8904841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3D18B-4E0B-4AB5-AA38-07AFA1BC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DD7FE-6AE0-4E60-AA7D-363B7B3F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A1CD-46C7-4D5E-A731-D73C22F9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3DC3-579C-4D5B-84D7-05C9259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A8FA-1DA2-4FC6-862C-F7E1E45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3EDE-6A17-4AD3-853E-FF561E09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0C02-99B8-4BCC-8AAC-4CC4245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979F-CDC1-4E1B-A81B-D664A419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A8E9-23F4-4B8F-857A-88F884E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F07D-CFBF-4F06-B608-14C53A9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799F-1FA1-44CC-B4FE-F6AAF96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B120-5EF0-49FB-BC7A-CF73C4E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37BB-F1C8-48D8-8279-25611C85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F068-C429-4768-8D76-9AF6CD74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3FFC-6EA0-4F04-A175-2D51038F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8528B-E8D1-4481-AFBB-75095D03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0D01-ECFE-4B47-935D-FC4115F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9359-49FB-473F-80A1-14DB749E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CEE2-767B-4AAD-A80D-BB22801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911BF-EBE8-4A31-90F2-A443FB1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9292-9A91-4135-BD92-1720A862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AD632-3CCC-4ED1-AF8D-6C9F5AD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84034-788D-443A-9EA3-FE1440E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72FD-2B53-4521-B5C2-4DE6065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627B9-3DE0-490B-A506-A2022D40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7E01-9221-487B-BBEF-0D28E3F0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9270-B9AA-45CA-8C59-35A24374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CCBE-516C-4B35-A693-311DF3AD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22E1-3104-4911-99CC-DD3E31D9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AAD3-A948-4E5E-9775-D79703F9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C56A-F4DA-44B5-8CBB-2D51F8B7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C068-069F-46EE-8B01-EE3873E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6B281-6280-4975-AAF4-83357BFA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3357-1D2F-4C0C-B12D-CF0C4E0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5B754-E4FA-4742-AC59-FF819133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DCEC-05C2-4B8F-A1C1-9FC6349C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4F9A3-3BFA-4723-B53A-544EB4A3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5B8E-827D-42F9-9B5C-1816338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DAEA-83A0-445F-B4FF-60E62F6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3DEE-E0C0-4F42-88E7-0E32E88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09E65-03C1-4147-92B9-7E787D9F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BE7A0-53F7-41DE-BF5A-A5E6FB87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A1730-2CC4-4F0C-813D-C4E1235B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89637-5988-41A8-8C83-82C2234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C788F-F411-47CE-A7FF-4A8B4EBE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45DA0-DB29-4F9D-87EC-8CC3DD9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B0B4-B08D-46C8-8DB3-5FB4F9E1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B9370-5231-4D66-A2C0-BF585431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BEE69-C32C-4E87-98E2-EE2F5B2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65CF-E202-4086-AD93-002247CB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8B3C-8689-4699-8B2B-CFA8B4A9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7BA7-1C33-4135-9ED9-CF292A2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A0277-E119-4CB9-9E1D-5D8664D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F394F-E52F-4FA9-8328-437F121F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5FB2-D652-43D2-A3C5-0AE39F5B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397E-BF93-44B9-A637-C01D940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4C8F-4720-4AC2-A55C-A592958DFC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D48A-048C-4CF3-A855-841E2A1DF1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7D9-65DD-4E4F-96E9-8B149FB55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BE1C-0EC4-40A2-9046-AA4834D830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A8AA-2CA4-4739-8573-53B3B72066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19FE-349C-46D7-948C-7552F2E4B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0F81-6DA1-4CC6-A4C0-530243B4DB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Structure of Ma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atomic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Within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5617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therford (190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dense, positively charged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articles shot at gold foil occasionally bounced bac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ed th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ie in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contain mostly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mass is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rutherford"/>
          <p:cNvPicPr/>
          <p:nvPr/>
        </p:nvPicPr>
        <p:blipFill>
          <a:blip r:embed="rId2"/>
          <a:stretch/>
        </p:blipFill>
        <p:spPr>
          <a:xfrm>
            <a:off x="6858000" y="304920"/>
            <a:ext cx="195588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so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0" name="Picture 4" descr="thomson"/>
          <p:cNvPicPr/>
          <p:nvPr/>
        </p:nvPicPr>
        <p:blipFill>
          <a:blip r:embed="rId2"/>
          <a:stretch/>
        </p:blipFill>
        <p:spPr>
          <a:xfrm>
            <a:off x="1143000" y="1828800"/>
            <a:ext cx="3270240" cy="2057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038480" y="3581280"/>
            <a:ext cx="399420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72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re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4" name="Picture 9" descr="rutherford_exp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72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at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7" name="Picture 8" descr="ruthatom"/>
          <p:cNvPicPr/>
          <p:nvPr/>
        </p:nvPicPr>
        <p:blipFill>
          <a:blip r:embed="rId2"/>
          <a:stretch/>
        </p:blipFill>
        <p:spPr>
          <a:xfrm>
            <a:off x="228600" y="1219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4"/>
          <p:cNvSpPr/>
          <p:nvPr/>
        </p:nvSpPr>
        <p:spPr>
          <a:xfrm>
            <a:off x="3962520" y="5105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bSEOOMs5VNU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729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(191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e in definite orbit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s each electron in a specific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ergy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jump between levels from path to p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Bohr"/>
          <p:cNvPicPr/>
          <p:nvPr/>
        </p:nvPicPr>
        <p:blipFill>
          <a:blip r:embed="rId2"/>
          <a:stretch/>
        </p:blipFill>
        <p:spPr>
          <a:xfrm>
            <a:off x="6477120" y="914400"/>
            <a:ext cx="2387520" cy="31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ohr At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Bohr model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3692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82880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wCCz20JOXXk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72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hrodinger and Heisenber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v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model based on wave mecha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 is surrounded by elect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ve in or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termin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bable lo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n electron based on the amoun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 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bable location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ctron cl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5" descr="orbital_2px"/>
          <p:cNvPicPr/>
          <p:nvPr/>
        </p:nvPicPr>
        <p:blipFill>
          <a:blip r:embed="rId1"/>
          <a:stretch/>
        </p:blipFill>
        <p:spPr>
          <a:xfrm>
            <a:off x="2057400" y="380880"/>
            <a:ext cx="6248520" cy="574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4409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vUzTQWn-wfE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omic models past and pres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atoms"/>
          <p:cNvPicPr/>
          <p:nvPr/>
        </p:nvPicPr>
        <p:blipFill>
          <a:blip r:embed="rId1"/>
          <a:stretch/>
        </p:blipFill>
        <p:spPr>
          <a:xfrm>
            <a:off x="1676520" y="1676520"/>
            <a:ext cx="5181480" cy="5054400"/>
          </a:xfrm>
          <a:prstGeom prst="rect">
            <a:avLst/>
          </a:prstGeom>
          <a:ln w="0">
            <a:noFill/>
          </a:ln>
        </p:spPr>
      </p:pic>
      <p:pic>
        <p:nvPicPr>
          <p:cNvPr id="382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561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Atomic Models Throughout Histo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k  (~400 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ton (18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mson (18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(19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hr (19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5" descr="atom"/>
          <p:cNvPicPr/>
          <p:nvPr/>
        </p:nvPicPr>
        <p:blipFill>
          <a:blip r:embed="rId2"/>
          <a:stretch/>
        </p:blipFill>
        <p:spPr>
          <a:xfrm>
            <a:off x="3962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critus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os: indivisible or uncut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said the smallest piece of matter was an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wasn’t accepted for 21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democritus"/>
          <p:cNvPicPr/>
          <p:nvPr/>
        </p:nvPicPr>
        <p:blipFill>
          <a:blip r:embed="rId2"/>
          <a:stretch/>
        </p:blipFill>
        <p:spPr>
          <a:xfrm>
            <a:off x="6888240" y="0"/>
            <a:ext cx="225576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istotle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made up of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ic 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   Water   Air   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ngs in the world are made up of different combinations of these four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shadowed Democratus’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2756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6318360" y="152280"/>
            <a:ext cx="2825640" cy="339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ton (1800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elements are composed of a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were like hard spher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are indivisible and indestruct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the same element are exactly a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different elements are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formed by the joining of atoms of two or mor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ed experiments combining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john_dalton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476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altatom"/>
          <p:cNvPicPr/>
          <p:nvPr/>
        </p:nvPicPr>
        <p:blipFill>
          <a:blip r:embed="rId2"/>
          <a:stretch/>
        </p:blipFill>
        <p:spPr>
          <a:xfrm>
            <a:off x="228600" y="1676520"/>
            <a:ext cx="8381880" cy="3849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5715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L2KmCTst2o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mson (189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negatively charged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as divisib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les discovered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m Pudding Mod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 consists of positively charged material with negative charges spread evenly throug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the cathode-ray tube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5" descr="JJthomson"/>
          <p:cNvPicPr/>
          <p:nvPr/>
        </p:nvPicPr>
        <p:blipFill>
          <a:blip r:embed="rId2"/>
          <a:stretch/>
        </p:blipFill>
        <p:spPr>
          <a:xfrm>
            <a:off x="-6480" y="1743120"/>
            <a:ext cx="3322800" cy="44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re’s JJ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3" name="Picture 4" descr="thomson atom"/>
          <p:cNvPicPr/>
          <p:nvPr/>
        </p:nvPicPr>
        <p:blipFill>
          <a:blip r:embed="rId2"/>
          <a:stretch/>
        </p:blipFill>
        <p:spPr>
          <a:xfrm>
            <a:off x="304920" y="1676520"/>
            <a:ext cx="4952880" cy="481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3412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m Pudd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25780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RW_zfKOU9uM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48:01Z</dcterms:created>
  <dc:creator>duser</dc:creator>
  <dc:description/>
  <dc:language>en-US</dc:language>
  <cp:lastModifiedBy>Teacher</cp:lastModifiedBy>
  <dcterms:modified xsi:type="dcterms:W3CDTF">2009-09-03T01:30:21Z</dcterms:modified>
  <cp:revision>39</cp:revision>
  <dc:subject/>
  <dc:title>The Structure of Matter</dc:title>
</cp:coreProperties>
</file>