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3653-112D-4E87-AE29-EB5F51EE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D471-5AFA-4CDB-B941-D610D304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0B64-9BCA-4D11-89CC-9D95F7A4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66B3-2EEB-4557-BE7E-983DA4BC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43E7-3AD2-4FBC-BBBA-4D70ED70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CDE9-4CC6-4F1B-923E-3CDD655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5953-97E5-4790-B689-67FE293F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E920-5886-42C9-8712-BD65F247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5C54-A1D8-48A8-8352-880CF984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1FA6-11F4-42DB-9FE1-A5BF21F5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0A18-B76A-4E50-9C44-91A333B2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5A2F-E64D-4BC4-9698-B085530C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7972-174A-46B3-8996-724F8089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D3B3-2964-4B8B-A61A-79415FD0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7F31-CDE3-41EC-8806-1128C0CB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5E83-76DA-46C6-AFE8-D5802340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60E2-BD7A-416B-883E-AC33247D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5EACE-7BB2-4A05-8073-B358C4DC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37B26-E9EE-4C43-9D22-6012404B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77CD6-C481-4394-9705-8A160B54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A5218-B97E-4A18-B8D7-45D32111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04EA4-DDC7-4467-A078-03A39FED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67F7-9ED6-449B-962D-CFB7D77D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EC057-0FF0-49D5-B4D4-0E7DE07A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D0978-39BA-465A-A277-2D306C3F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EACBC-881F-4C04-86D4-0F311029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CC6AC-3B1D-417D-90CD-A5B74E3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9DA77-A8CD-4F57-AA5A-1B2FE91F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1693C-600C-42F8-B65D-5ACE0289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2400A-527C-45B6-A77C-8284782E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B8D5-BE42-4854-8E3C-50B99460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84F2A-BF75-47C8-98AE-C2601B39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96CE-D060-432B-9B96-35B48D74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D978-598F-496C-9507-07AB0DB0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2733-D8FB-4695-BC2D-A03C4965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AD8C-636B-4545-9E8F-76B6A4A2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B123-8EC7-4E9B-AFD7-C0339D84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8E5B-115F-4C3C-A308-891A45BA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63770-C5C0-4BAC-AE28-C3ECBFB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4D93-A51F-40D4-B471-402D2E77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C9882-4EAB-45D6-849A-A19AB1C6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2142-AAE3-46EF-9A99-84A5E756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03687-7D8B-45D8-8181-0BF3DD4C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2D91D-FF17-40B1-84FF-3214A85C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1A13-F760-45D6-A970-2B9EB523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3E61B-0B89-446E-8E0A-6763124B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95B28-62F7-4862-8CD7-DDC28833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3271-6CE0-44E9-8B06-BA48B194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3F9FC-CBA7-4067-B732-E3ABAAE9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3ADF9-E0C0-4064-B3B3-51F44565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42698-034F-4E88-8EA3-E9D8EF2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5653-C07F-4724-ABC1-7D9FDAE6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81987-3411-41D7-A2EE-9692BEF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211D-6B11-4F05-A50B-9AF69FE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139C-C1C4-4903-B77F-79BD2AE0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C87E-CFAC-4049-A9AE-AF00F5ED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62E4-B5CB-4465-B78D-F7B324EA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9C2A2-1731-44CF-B370-6F038C60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F1488-29D6-45F8-8ED2-E9923B23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E4589-5BA6-402E-8ECA-0399B4DD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932C8-0818-4EAE-9463-D7C58237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DD36-54FF-4DDD-B5EB-C3363A20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A37A6-D92D-4817-A4C6-5D0FF298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7719-1741-4227-AEFB-79C2D187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35D90-B19C-4435-9E90-1BA229B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2AA5-9BA2-4077-B56D-C208FE0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A792-2D14-462F-8D5E-26E49233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95928-38AA-4801-BB18-6618C93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512DE-63C4-4D98-9C68-56488935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65950-CCF3-44A8-BB95-417258D4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6A875-524D-4EAD-8230-649B1BE1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BBCF-EE48-435F-A8DC-223E899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B6338-5CC1-46C9-B3E6-902EC79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FFEF9-8097-4096-8ECB-949DF21C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7C96E-B964-49C5-A88D-1E238B7C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805D2-1F68-460F-A45B-76CA8356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FB487-F498-466E-BD8C-9E7A0A6D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2ED7-E333-4BDE-8A76-59A3F96F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6829F-794A-4FD1-8305-DDB37F30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270C6-F3E6-451E-9F70-E88E607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83603-FA9D-4B48-B09E-7418812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92704-858D-4983-8D96-0BB3D9F9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DBDF7-01C3-4D38-886E-212C2787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9CBD-1443-4C51-9490-8F718438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AC9D-06F6-468B-BD37-20E97ADB57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865D-D809-4389-8F2E-DB9D165102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D3B-FD45-4C46-AFB7-A38A0B1767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C319-8F98-459D-A8B4-BAA20A6467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76F2-245D-471E-BB15-6EEE13B446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7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6749-F883-42BB-B0E5-81D9432ADF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1600-0219-4DD1-8126-27F129EFD4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Structure of Mat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atomic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Within the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8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5617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utherford (190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dense, positively charged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Foil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particles shot at gold foil occasionally bounced bac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called th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ie in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contain mostly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mass is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rutherford"/>
          <p:cNvPicPr/>
          <p:nvPr/>
        </p:nvPicPr>
        <p:blipFill>
          <a:blip r:embed="rId2"/>
          <a:stretch/>
        </p:blipFill>
        <p:spPr>
          <a:xfrm>
            <a:off x="6858000" y="304920"/>
            <a:ext cx="195588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68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68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omson’s the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0" name="Picture 4" descr="thomson"/>
          <p:cNvPicPr/>
          <p:nvPr/>
        </p:nvPicPr>
        <p:blipFill>
          <a:blip r:embed="rId2"/>
          <a:stretch/>
        </p:blipFill>
        <p:spPr>
          <a:xfrm>
            <a:off x="1143000" y="1828800"/>
            <a:ext cx="3270240" cy="2057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4"/>
          <a:stretch/>
        </p:blipFill>
        <p:spPr>
          <a:xfrm>
            <a:off x="4038480" y="3581280"/>
            <a:ext cx="399420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72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re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4" name="Picture 9" descr="rutherford_exp"/>
          <p:cNvPicPr/>
          <p:nvPr/>
        </p:nvPicPr>
        <p:blipFill>
          <a:blip r:embed="rId2"/>
          <a:stretch/>
        </p:blipFill>
        <p:spPr>
          <a:xfrm>
            <a:off x="685800" y="198108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729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at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7" name="Picture 8" descr="ruthatom"/>
          <p:cNvPicPr/>
          <p:nvPr/>
        </p:nvPicPr>
        <p:blipFill>
          <a:blip r:embed="rId2"/>
          <a:stretch/>
        </p:blipFill>
        <p:spPr>
          <a:xfrm>
            <a:off x="228600" y="12193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4"/>
          <p:cNvSpPr/>
          <p:nvPr/>
        </p:nvSpPr>
        <p:spPr>
          <a:xfrm>
            <a:off x="3962520" y="51055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bSEOOMs5VNU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729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hr (191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e in definite orbit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s each electron in a specific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ergy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jump between levels from path to p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7" descr="Bohr"/>
          <p:cNvPicPr/>
          <p:nvPr/>
        </p:nvPicPr>
        <p:blipFill>
          <a:blip r:embed="rId2"/>
          <a:stretch/>
        </p:blipFill>
        <p:spPr>
          <a:xfrm>
            <a:off x="6477120" y="914400"/>
            <a:ext cx="2387520" cy="31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Bohr Ato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7" descr="Bohr model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3692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182880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wCCz20JOXXk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729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hrodinger and Heisenber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ve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n model based on wave mechan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 is surrounded by electr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ve in or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determin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bable lo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n electron based on the amoun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 h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bable location is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bit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lectron clo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68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68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5" descr="orbital_2px"/>
          <p:cNvPicPr/>
          <p:nvPr/>
        </p:nvPicPr>
        <p:blipFill>
          <a:blip r:embed="rId1"/>
          <a:stretch/>
        </p:blipFill>
        <p:spPr>
          <a:xfrm>
            <a:off x="2057400" y="380880"/>
            <a:ext cx="6248520" cy="5740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4409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286000" y="31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vUzTQWn-wfE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omic models past and pres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atoms"/>
          <p:cNvPicPr/>
          <p:nvPr/>
        </p:nvPicPr>
        <p:blipFill>
          <a:blip r:embed="rId1"/>
          <a:stretch/>
        </p:blipFill>
        <p:spPr>
          <a:xfrm>
            <a:off x="1676520" y="1676520"/>
            <a:ext cx="5181480" cy="5054400"/>
          </a:xfrm>
          <a:prstGeom prst="rect">
            <a:avLst/>
          </a:prstGeom>
          <a:ln w="0">
            <a:noFill/>
          </a:ln>
        </p:spPr>
      </p:pic>
      <p:pic>
        <p:nvPicPr>
          <p:cNvPr id="382" name="MacOS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5617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Atomic Models Throughout Histo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k  (~400 B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ton (18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mson (189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therford (19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hr (19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5" descr="atom"/>
          <p:cNvPicPr/>
          <p:nvPr/>
        </p:nvPicPr>
        <p:blipFill>
          <a:blip r:embed="rId2"/>
          <a:stretch/>
        </p:blipFill>
        <p:spPr>
          <a:xfrm>
            <a:off x="3962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mocritus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os: indivisible or uncut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said the smallest piece of matter was an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wasn’t accepted for 21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5" descr="democritus"/>
          <p:cNvPicPr/>
          <p:nvPr/>
        </p:nvPicPr>
        <p:blipFill>
          <a:blip r:embed="rId2"/>
          <a:stretch/>
        </p:blipFill>
        <p:spPr>
          <a:xfrm>
            <a:off x="6888240" y="0"/>
            <a:ext cx="225576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istotle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is made up of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sic  ele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   Water   Air   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ings in the world are made up of different combinations of these four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shadowed Democratus’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2756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6318360" y="152280"/>
            <a:ext cx="2825640" cy="339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alton (1800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elements are composed of a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were like hard spher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are indivisible and indestruct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the same element are exactly a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different elements are diffe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unds are formed by the joining of atoms of two or mor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ed experiments combining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john_dalton"/>
          <p:cNvPicPr/>
          <p:nvPr/>
        </p:nvPicPr>
        <p:blipFill>
          <a:blip r:embed="rId1"/>
          <a:stretch/>
        </p:blipFill>
        <p:spPr>
          <a:xfrm>
            <a:off x="5715000" y="228600"/>
            <a:ext cx="2362320" cy="2476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altatom"/>
          <p:cNvPicPr/>
          <p:nvPr/>
        </p:nvPicPr>
        <p:blipFill>
          <a:blip r:embed="rId2"/>
          <a:stretch/>
        </p:blipFill>
        <p:spPr>
          <a:xfrm>
            <a:off x="228600" y="1676520"/>
            <a:ext cx="8381880" cy="3849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80880" y="57150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L2KmCTst2o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mson (189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04960" y="38088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negatively charged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as divisibl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les discovered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m Pudding Mode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 consists of positively charged material with negative charges spread evenly throug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the cathode-ray tube experi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15" descr="JJthomson"/>
          <p:cNvPicPr/>
          <p:nvPr/>
        </p:nvPicPr>
        <p:blipFill>
          <a:blip r:embed="rId2"/>
          <a:stretch/>
        </p:blipFill>
        <p:spPr>
          <a:xfrm>
            <a:off x="-6480" y="1743120"/>
            <a:ext cx="3322800" cy="44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re’s JJ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03" name="Picture 4" descr="thomson atom"/>
          <p:cNvPicPr/>
          <p:nvPr/>
        </p:nvPicPr>
        <p:blipFill>
          <a:blip r:embed="rId2"/>
          <a:stretch/>
        </p:blipFill>
        <p:spPr>
          <a:xfrm>
            <a:off x="304920" y="1676520"/>
            <a:ext cx="4952880" cy="4811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33412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m Pudd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257800" y="3048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RW_zfKOU9uM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2:48:01Z</dcterms:created>
  <dc:creator>duser</dc:creator>
  <dc:description/>
  <dc:language>en-US</dc:language>
  <cp:lastModifiedBy>Teacher</cp:lastModifiedBy>
  <dcterms:modified xsi:type="dcterms:W3CDTF">2009-09-03T01:30:21Z</dcterms:modified>
  <cp:revision>39</cp:revision>
  <dc:subject/>
  <dc:title>The Structure of Matter</dc:title>
</cp:coreProperties>
</file>