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1AB1-6A8F-46F2-B35F-56EA8BDD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3CBD-10B5-4108-B8F8-488C640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D3B1-7A84-49DF-A53E-AF2FEE1C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80A7-7EBB-4EEA-AE59-CE4742A4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FA52-DBF9-4F7F-AB0F-03C53A9E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8D94-6952-45A8-80F0-0516A81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EED-A7CE-4BB8-B1B7-6E10782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2B4-4F36-49ED-9202-7E0B673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C3C-5430-4DBA-BF58-0942395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473-5A94-4E56-99B7-9BD78BE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ED7E-CFDC-4CA1-837F-FF13A92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010D-4517-446B-8A91-D2D0B72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811-E407-4235-A6DE-8431B1F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CAA-CBF2-46CB-98D6-5FD6B3D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1F7-306C-4FCD-BC3F-A2C20C2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853E-CC04-48DA-A253-E1BCEE62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6610-3129-4C60-BF1D-4FA35F65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10CF2-B582-468E-BBA7-66FFA787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63184-C059-4967-9AC7-022FC988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68BCD-8EEC-4121-B342-49FD7914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E921B-C05A-4905-95B6-8C8C179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83A89-AC7C-4438-9687-0BDD089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F8B2-1BB3-46AA-BF40-4C014DD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8C547-A980-49A2-B02F-36999BC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BF2A1-3E31-45C9-ABFF-5382D11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3AC6D-A0D8-4ADE-98D3-721C2A3F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5D172-3018-4B00-906A-AA57E07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A5387-9647-4C7F-B2BA-007EA9B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8E073-6CE2-4D18-961A-7C666F3A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B1B5C-5607-4BAA-BBBA-6594F79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76E7-8497-4F0F-956B-BFA01C82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38B6-DDE0-45F5-9C4C-8061ED87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0DB4-8C16-43A1-BCA3-46DEAC2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865E-6B67-41A6-9710-2B9AC5C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C695-DB0C-4AAA-BA99-5D436B5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AECD-83C0-4B4E-AA9B-1778463B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95B9-EB5D-44B7-97C6-A054E8EA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AE6C-D177-4C62-BBC8-562F7B1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B6A7-9FC3-4F6E-8DA8-382DE24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3834-8F04-4F55-8E4B-7CE32CAF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8FF2-8250-4382-B940-A70BA62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0697-847C-48C3-B1CD-08DC27E1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C912-40C0-49D6-8C55-4E8382AC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DE8D-2322-466C-90FE-1B31E9F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E618-B482-489B-B4CA-EDCFB9C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0E7D-2B20-401D-BBF2-9A7BA60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A05E-8AF9-4DFD-9588-87332F49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1822-2686-4D20-B66C-2BA47556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8F3F2-7FA8-422A-8757-100AC8EB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514E-E50D-4D75-BDC0-E11D035C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E477-098D-4FA2-A13F-A3543EF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BA17-1F5E-4DA2-B286-0536E14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6E7B-541B-4BBD-91B0-B9A517B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4633-9B7D-4BF1-8AF6-3E7A6BD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0AC6-37C9-472B-B03B-F08529F6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E8DE-89BB-4C8A-BD01-AF96E0A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4EA4-BF59-49FA-B397-CE4C9532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4714-80CF-4618-BBC5-7FF9FA2D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61A6-7AC9-4FC2-BDA4-D99633D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5932-C6D8-46B0-B9D1-248E4C3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A26B-3434-44E8-8C28-A423F7F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F272-49AC-4522-90A4-16098397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DE08-1219-4A4A-83DD-7DB8D0A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BE077-60CE-48E3-BB9E-1D5B7EE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91A2-5CFD-4841-8B84-76E895F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A4DEE-B2E6-4A54-A8B9-8805C62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C692-A7D0-4EDF-A3BA-1D8F694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0268D-C492-4C97-9B74-27FE0EE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B542-96DA-4265-956E-E767DD6D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F9816-0F74-4814-83BC-C34E139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710F-CACE-4623-A683-B0FF50FA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738D-F511-499B-8F7C-1196BC08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5125-4F85-4871-966D-D652A23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6070-DB94-4DCD-8F13-55EFA0E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F2101-2732-4123-A3BD-C2F1E58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E53A-8969-46B9-A66F-CB518882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45CD-53CF-4D99-871B-C98E9BA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1753-FE95-4323-B032-859B7553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190A-5100-43FB-9F46-E23BFAA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40F46-AEF0-4FE0-A1A0-F880B5F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4D05-7712-4874-9D5D-26E42FA1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60CD-55CD-4A86-BD16-90FDAD6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AC09-D1F5-4D6E-95CD-284C3773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3D2E-2E60-4115-8FB4-B87DE992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B14-57EC-4324-84B4-E160A68901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FE43-D1AA-433C-926B-27BF88116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9DC-F007-4E56-8521-4AC5D9376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B9B5-010B-4205-B3B1-43999584F8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E6E-6C7B-48D4-91E3-538D4605F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F4E1-4F5D-41EB-A436-A116AE5DD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D5A6-56D1-449D-AB7E-6A29BC056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Structure of Mat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ic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atomic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s Within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8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5617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02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therford (190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dense, positively charged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Foil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articles shot at gold foil occasionally bounced bac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ed th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ie in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contain mostly empty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mass is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rutherford"/>
          <p:cNvPicPr/>
          <p:nvPr/>
        </p:nvPicPr>
        <p:blipFill>
          <a:blip r:embed="rId2"/>
          <a:stretch/>
        </p:blipFill>
        <p:spPr>
          <a:xfrm>
            <a:off x="6858000" y="304920"/>
            <a:ext cx="1955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so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0" name="Picture 4" descr="thomson"/>
          <p:cNvPicPr/>
          <p:nvPr/>
        </p:nvPicPr>
        <p:blipFill>
          <a:blip r:embed="rId2"/>
          <a:stretch/>
        </p:blipFill>
        <p:spPr>
          <a:xfrm>
            <a:off x="1143000" y="1828800"/>
            <a:ext cx="3270240" cy="2057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038480" y="3581280"/>
            <a:ext cx="399420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72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re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4" name="Picture 9" descr="rutherford_exp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72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therford’s at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7" name="Picture 8" descr="ruthatom"/>
          <p:cNvPicPr/>
          <p:nvPr/>
        </p:nvPicPr>
        <p:blipFill>
          <a:blip r:embed="rId2"/>
          <a:stretch/>
        </p:blipFill>
        <p:spPr>
          <a:xfrm>
            <a:off x="228600" y="12193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3962520" y="5105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bSEOOMs5VNU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729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(191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move in definite orbit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s each electron in a specific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ergy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jump between levels from path to p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Bohr"/>
          <p:cNvPicPr/>
          <p:nvPr/>
        </p:nvPicPr>
        <p:blipFill>
          <a:blip r:embed="rId2"/>
          <a:stretch/>
        </p:blipFill>
        <p:spPr>
          <a:xfrm>
            <a:off x="6477120" y="914400"/>
            <a:ext cx="2387520" cy="31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ohr At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7" descr="Bohr model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3692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82880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wCCz20JOXXk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29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hrodinger and Heisenber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v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n model based on wave mecha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 is surrounded by elect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ve in or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termin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bable lo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an electron based on the amoun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electron h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bable location is call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b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5" descr="orbital_2px"/>
          <p:cNvPicPr/>
          <p:nvPr/>
        </p:nvPicPr>
        <p:blipFill>
          <a:blip r:embed="rId1"/>
          <a:stretch/>
        </p:blipFill>
        <p:spPr>
          <a:xfrm>
            <a:off x="2057400" y="380880"/>
            <a:ext cx="6248520" cy="5740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4409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vUzTQWn-wfE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omic models past and pres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atoms"/>
          <p:cNvPicPr/>
          <p:nvPr/>
        </p:nvPicPr>
        <p:blipFill>
          <a:blip r:embed="rId1"/>
          <a:stretch/>
        </p:blipFill>
        <p:spPr>
          <a:xfrm>
            <a:off x="1676520" y="1676520"/>
            <a:ext cx="5181480" cy="5054400"/>
          </a:xfrm>
          <a:prstGeom prst="rect">
            <a:avLst/>
          </a:prstGeom>
          <a:ln w="0">
            <a:noFill/>
          </a:ln>
        </p:spPr>
      </p:pic>
      <p:pic>
        <p:nvPicPr>
          <p:cNvPr id="382" name="MacOS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5617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Atomic Models Throughout 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k  (~400 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ton (18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mson (18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(19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r (19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5" descr="atom"/>
          <p:cNvPicPr/>
          <p:nvPr/>
        </p:nvPicPr>
        <p:blipFill>
          <a:blip r:embed="rId2"/>
          <a:stretch/>
        </p:blipFill>
        <p:spPr>
          <a:xfrm>
            <a:off x="3962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mocritus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os: indivisible or uncut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itus said the smallest piece of matter was an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wasn’t accepted for 21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5" descr="democritus"/>
          <p:cNvPicPr/>
          <p:nvPr/>
        </p:nvPicPr>
        <p:blipFill>
          <a:blip r:embed="rId2"/>
          <a:stretch/>
        </p:blipFill>
        <p:spPr>
          <a:xfrm>
            <a:off x="6888240" y="0"/>
            <a:ext cx="225576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istotle (~400 BC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made up of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sic  ele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    Water   Air   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the world are made up of different combinations of these four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shadowed Democratus’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2756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6318360" y="152280"/>
            <a:ext cx="2825640" cy="339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ton (1800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elements are composed of a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were like hard sphe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are indivisible and indestruct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the same element are exactly a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 of different elements are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formed by the joining of atoms of two or more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ed experiments combining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john_dalton"/>
          <p:cNvPicPr/>
          <p:nvPr/>
        </p:nvPicPr>
        <p:blipFill>
          <a:blip r:embed="rId1"/>
          <a:stretch/>
        </p:blipFill>
        <p:spPr>
          <a:xfrm>
            <a:off x="5715000" y="228600"/>
            <a:ext cx="2362320" cy="2476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altatom"/>
          <p:cNvPicPr/>
          <p:nvPr/>
        </p:nvPicPr>
        <p:blipFill>
          <a:blip r:embed="rId2"/>
          <a:stretch/>
        </p:blipFill>
        <p:spPr>
          <a:xfrm>
            <a:off x="228600" y="1676520"/>
            <a:ext cx="8381880" cy="3849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57150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L2KmCTst2o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mson (189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negatively charged p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om was divisib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les discovered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m Pudding Mode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 consists of positively charged material with negative charges spread evenly throug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the cathode-ray tube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5" descr="JJthomson"/>
          <p:cNvPicPr/>
          <p:nvPr/>
        </p:nvPicPr>
        <p:blipFill>
          <a:blip r:embed="rId2"/>
          <a:stretch/>
        </p:blipFill>
        <p:spPr>
          <a:xfrm>
            <a:off x="-6480" y="1743120"/>
            <a:ext cx="3322800" cy="44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re’s JJ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03" name="Picture 4" descr="thomson atom"/>
          <p:cNvPicPr/>
          <p:nvPr/>
        </p:nvPicPr>
        <p:blipFill>
          <a:blip r:embed="rId2"/>
          <a:stretch/>
        </p:blipFill>
        <p:spPr>
          <a:xfrm>
            <a:off x="304920" y="1676520"/>
            <a:ext cx="4952880" cy="481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412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m Pudd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tube.com/watch?v=RW_zfKOU9uM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48:01Z</dcterms:created>
  <dc:creator>duser</dc:creator>
  <dc:description/>
  <dc:language>en-US</dc:language>
  <cp:lastModifiedBy>Teacher</cp:lastModifiedBy>
  <dcterms:modified xsi:type="dcterms:W3CDTF">2009-09-03T01:30:21Z</dcterms:modified>
  <cp:revision>39</cp:revision>
  <dc:subject/>
  <dc:title>The Structure of Matter</dc:title>
</cp:coreProperties>
</file>