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83B4-0A75-4AAC-84C9-A434AE50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CC99-1ED2-4FF1-A325-9A67B5B1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847F-67B8-4BD9-9D32-7D309594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E934-F818-4B84-A66D-E0ABA0EB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9A85-9BA1-401F-BA86-89FB444D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68A1-B042-4E97-9FBE-AD56D232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881C-ABC8-4F8D-8062-0AD7A6E3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83E7-03C7-4461-B646-4C6A0AE6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65F6-2E50-487B-90B5-821980D1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A771-6BFB-48E5-9A53-3D34A2D3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0EE6-FE25-42DE-BF67-ABEFAB8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BFD7-5C91-4039-A8FF-3A1A8E9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DC1-4378-4DAD-BB35-FE80D48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4998-30D6-4632-9FC4-5AD2C63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812B-55E7-47A9-8C53-BDBAFB92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5F39-F375-4A9A-A88C-54CDD975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A4D7-AA04-4F34-9A23-F599DECD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56C8D-2A47-45A8-8EEF-B3FE77C2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8FC68-F957-4F84-A6E1-D1AFBE79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929EB-A28E-422C-B141-C5AD3288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4CB2C-EDEE-4F64-9BF6-244F8827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D57D3-7A90-4618-8202-174734E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E8FF-5C9D-4AF7-8E91-47962C1E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1FE0A-EAD3-4C33-A191-A4F0C14C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2BF18-EAD4-4B64-9634-553D600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28181-D43E-4D5C-9A91-CCEE1296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43860-9495-4BA3-9504-D0E68DDF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F7DF0-AF81-47A2-863B-890F4F1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1A2A4-D02D-4505-9168-804B61E1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E05E1-B2F5-40EE-BD49-5C58E925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651D-5C4F-4198-8859-0B164BA6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046B0-0E09-4247-91CC-7FBD378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B83E-AAD3-4866-8197-0E158B77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FAB3-2318-46DA-AF16-64B5244C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3693-3C84-42C7-AE62-3ECDDA63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18C1-6B6B-4960-A983-FAB9C643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3E9F-4A8E-4A3F-B52C-ED7074F0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35F1-8850-48A1-9AB2-26D9A5C2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7F3C5-4C83-45BC-809F-5856ED1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5C92-CD04-4524-B57B-B6CEB309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49DB-EBB3-47A7-A23F-F8ABE74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5D515-7245-464C-9C21-497300E1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2C3B-43C7-427C-AB8A-3B77D0CC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AFD3F-CADF-482F-AE27-D35B520E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E4EA-0A58-4401-8E3F-82EFCF0D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9CF1F-1DB0-4187-ADD8-2E076D03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41713-7E35-49C6-B953-5D65339B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AF4C-C4F4-49A1-90C8-BEEEA87F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381BB-7D2A-4EEE-87EB-C12D5B6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D60A3-3136-4F85-8DDA-214A20B7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5C32E-9D61-43A9-835B-9AC7B6B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A9626-A757-43B2-97B5-CA6E2AB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B331-D403-4895-95C5-B304307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83222-5520-42AA-8FB3-7B08210A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6C62-71FD-4B49-956E-F4F60240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C66B-F40B-4D8D-BF83-27D7931C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0B52-81B1-47B8-8D7D-6009558C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33909-3E62-49DE-AA7C-AD1C6342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81A4-0ED4-4EC5-A53A-87A57037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C3525-5471-4335-8A0E-E6625779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018EB-2734-4F7F-87FC-FCD46EE5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473D0-8844-4663-966C-42B883F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4195-EF40-48C7-A319-8E1EAEF8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5ED7E-F1E0-4FC3-A676-74588CEE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C46D5-EA37-4A70-9E60-72ADFEEF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CB31-C62F-4D58-897B-C70C2C2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FA0C-4DDF-40DB-B56E-6D8C762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6F705-8973-4CA6-BDCC-FFD93DAC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E196-A841-459F-B73F-62DEADE5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8EB4-24D7-4229-8D71-664A5A09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B1D60-667C-40EE-90CD-819459AD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9C83B-40CC-4749-83CA-523AB58E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3E3EC-23FC-4310-91F5-30BB8828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0C13-29FE-48B3-B97D-B5875450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13BDF-96CF-4FB2-9FAB-C627106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F6045-B3D2-46AF-8CB0-D9DA3AB2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9A821-C92C-44B9-BD9E-C061F36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ED79-988A-428C-BAA0-63CC6AB4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B1198-36BF-4683-86CF-CEE642FC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6B6A-3DCC-4397-9717-A3EA7A3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1B37-1CEE-4DF5-9BCA-D9458C72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C20D-E87A-4202-B123-7ED18B7E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8BEB-D4C7-472E-8F11-9035BAF9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8A81-9058-4ED4-9B96-CC99DD39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A59F-BFFC-4B06-A0D2-7F75053BC0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525A-7E0E-43C7-BD27-601DD79CAE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5293-22CC-4ADA-B839-79C196219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E06-E80E-411D-9973-FA31AA27D0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CC5D-2C53-492B-9E57-9C96D545CC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7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208F-440F-430F-8BA8-AB2CA639A4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4662-EB66-45DA-BA54-9FA5473D41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Structure of Mat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atomic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Within the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8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5617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therford (190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dense, positively charged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Foil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articles shot at gold foil occasionally bounced bac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called th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ie in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contain mostly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mass is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rutherford"/>
          <p:cNvPicPr/>
          <p:nvPr/>
        </p:nvPicPr>
        <p:blipFill>
          <a:blip r:embed="rId2"/>
          <a:stretch/>
        </p:blipFill>
        <p:spPr>
          <a:xfrm>
            <a:off x="6858000" y="304920"/>
            <a:ext cx="195588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68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68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son’s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0" name="Picture 4" descr="thomson"/>
          <p:cNvPicPr/>
          <p:nvPr/>
        </p:nvPicPr>
        <p:blipFill>
          <a:blip r:embed="rId2"/>
          <a:stretch/>
        </p:blipFill>
        <p:spPr>
          <a:xfrm>
            <a:off x="1143000" y="1828800"/>
            <a:ext cx="3270240" cy="2057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4"/>
          <a:stretch/>
        </p:blipFill>
        <p:spPr>
          <a:xfrm>
            <a:off x="4038480" y="3581280"/>
            <a:ext cx="399420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72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re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4" name="Picture 9" descr="rutherford_exp"/>
          <p:cNvPicPr/>
          <p:nvPr/>
        </p:nvPicPr>
        <p:blipFill>
          <a:blip r:embed="rId2"/>
          <a:stretch/>
        </p:blipFill>
        <p:spPr>
          <a:xfrm>
            <a:off x="685800" y="198108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729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at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7" name="Picture 8" descr="ruthatom"/>
          <p:cNvPicPr/>
          <p:nvPr/>
        </p:nvPicPr>
        <p:blipFill>
          <a:blip r:embed="rId2"/>
          <a:stretch/>
        </p:blipFill>
        <p:spPr>
          <a:xfrm>
            <a:off x="228600" y="1219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4"/>
          <p:cNvSpPr/>
          <p:nvPr/>
        </p:nvSpPr>
        <p:spPr>
          <a:xfrm>
            <a:off x="3962520" y="5105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bSEOOMs5VNU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729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hr (191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e in definite orbit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s each electron in a specific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ergy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jump between levels from path to p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Bohr"/>
          <p:cNvPicPr/>
          <p:nvPr/>
        </p:nvPicPr>
        <p:blipFill>
          <a:blip r:embed="rId2"/>
          <a:stretch/>
        </p:blipFill>
        <p:spPr>
          <a:xfrm>
            <a:off x="6477120" y="914400"/>
            <a:ext cx="2387520" cy="31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Bohr Ato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7" descr="Bohr model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3692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82880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wCCz20JOXXk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729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hrodinger and Heisenber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v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n model based on wave mechan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 is surrounded by electr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ve in or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termin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bable lo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n electron based on the amoun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 h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bable location is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bit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lectron clo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68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68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5" descr="orbital_2px"/>
          <p:cNvPicPr/>
          <p:nvPr/>
        </p:nvPicPr>
        <p:blipFill>
          <a:blip r:embed="rId1"/>
          <a:stretch/>
        </p:blipFill>
        <p:spPr>
          <a:xfrm>
            <a:off x="2057400" y="380880"/>
            <a:ext cx="6248520" cy="5740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4409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vUzTQWn-wfE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omic models past and pres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atoms"/>
          <p:cNvPicPr/>
          <p:nvPr/>
        </p:nvPicPr>
        <p:blipFill>
          <a:blip r:embed="rId1"/>
          <a:stretch/>
        </p:blipFill>
        <p:spPr>
          <a:xfrm>
            <a:off x="1676520" y="1676520"/>
            <a:ext cx="5181480" cy="5054400"/>
          </a:xfrm>
          <a:prstGeom prst="rect">
            <a:avLst/>
          </a:prstGeom>
          <a:ln w="0">
            <a:noFill/>
          </a:ln>
        </p:spPr>
      </p:pic>
      <p:pic>
        <p:nvPicPr>
          <p:cNvPr id="382" name="MacOS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5617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Atomic Models Throughout Histo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k  (~400 B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ton (18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mson (18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therford (19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hr (19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5" descr="atom"/>
          <p:cNvPicPr/>
          <p:nvPr/>
        </p:nvPicPr>
        <p:blipFill>
          <a:blip r:embed="rId2"/>
          <a:stretch/>
        </p:blipFill>
        <p:spPr>
          <a:xfrm>
            <a:off x="3962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mocritus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os: indivisible or uncut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said the smallest piece of matter was an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wasn’t accepted for 21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democritus"/>
          <p:cNvPicPr/>
          <p:nvPr/>
        </p:nvPicPr>
        <p:blipFill>
          <a:blip r:embed="rId2"/>
          <a:stretch/>
        </p:blipFill>
        <p:spPr>
          <a:xfrm>
            <a:off x="6888240" y="0"/>
            <a:ext cx="225576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istotle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is made up of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sic  ele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   Water   Air   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ngs in the world are made up of different combinations of these four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shadowed Democratus’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2756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6318360" y="152280"/>
            <a:ext cx="2825640" cy="339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alton (1800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elements are composed of a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were like hard spher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are indivisible and indestruct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the same element are exactly a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different elements are diffe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unds are formed by the joining of atoms of two or mor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ed experiments combining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john_dalton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476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altatom"/>
          <p:cNvPicPr/>
          <p:nvPr/>
        </p:nvPicPr>
        <p:blipFill>
          <a:blip r:embed="rId2"/>
          <a:stretch/>
        </p:blipFill>
        <p:spPr>
          <a:xfrm>
            <a:off x="228600" y="1676520"/>
            <a:ext cx="8381880" cy="3849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80880" y="57150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L2KmCTst2o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mson (189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04960" y="38088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negatively charged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as divisibl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les discovered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m Pudding Mode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 consists of positively charged material with negative charges spread evenly throug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the cathode-ray tube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5" descr="JJthomson"/>
          <p:cNvPicPr/>
          <p:nvPr/>
        </p:nvPicPr>
        <p:blipFill>
          <a:blip r:embed="rId2"/>
          <a:stretch/>
        </p:blipFill>
        <p:spPr>
          <a:xfrm>
            <a:off x="-6480" y="1743120"/>
            <a:ext cx="3322800" cy="44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re’s JJ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3" name="Picture 4" descr="thomson atom"/>
          <p:cNvPicPr/>
          <p:nvPr/>
        </p:nvPicPr>
        <p:blipFill>
          <a:blip r:embed="rId2"/>
          <a:stretch/>
        </p:blipFill>
        <p:spPr>
          <a:xfrm>
            <a:off x="304920" y="1676520"/>
            <a:ext cx="4952880" cy="4811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33412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m Pudd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25780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RW_zfKOU9uM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48:01Z</dcterms:created>
  <dc:creator>duser</dc:creator>
  <dc:description/>
  <dc:language>en-US</dc:language>
  <cp:lastModifiedBy>Teacher</cp:lastModifiedBy>
  <dcterms:modified xsi:type="dcterms:W3CDTF">2009-09-03T01:30:21Z</dcterms:modified>
  <cp:revision>39</cp:revision>
  <dc:subject/>
  <dc:title>The Structure of Matter</dc:title>
</cp:coreProperties>
</file>