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DCA0-2079-4525-889B-EB2CDB74A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747E-673D-42AB-81AE-D389B7DC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CC41-48C4-4EC4-92C9-106765648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3B92-0E8C-4220-99AB-7948F9C02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4EF7-6FCD-4B5A-9A0B-6E323B91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90FF-BD53-4DF6-99B3-6A47167F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4820-296E-4AED-9E29-19773E55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CE95-E421-48C2-820D-E3A2ECC4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64B8-22BB-4325-8D9E-15E9207C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EDD5-40BE-4953-8A2D-226F7163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65D8-81BB-40BE-B1AB-F6E1BCC4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2CCC-CF96-48B6-9D34-77210796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BC24-55C2-48AB-B34F-9DF8B7125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495320" y="914400"/>
            <a:ext cx="35816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Hobo Std"/>
                <a:ea typeface="Hobo Std"/>
              </a:rPr>
              <a:t>Make Room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Hobo Std"/>
                <a:ea typeface="Hobo Std"/>
              </a:rPr>
              <a:t>for Volum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ified from T. Trimpe 2008   http://sciencespot.ne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MCj02903500000[1]"/>
          <p:cNvPicPr/>
          <p:nvPr/>
        </p:nvPicPr>
        <p:blipFill>
          <a:blip r:embed="rId1"/>
          <a:stretch/>
        </p:blipFill>
        <p:spPr>
          <a:xfrm>
            <a:off x="762120" y="3505320"/>
            <a:ext cx="297180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04920" y="1127160"/>
            <a:ext cx="510516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amount of space an object takes u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se unit of volume in the metric system i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is represented 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 or 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: 1 liter is equal to one cubi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ime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7"/>
          <p:cNvSpPr/>
          <p:nvPr/>
        </p:nvSpPr>
        <p:spPr>
          <a:xfrm>
            <a:off x="304920" y="3260880"/>
            <a:ext cx="60958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liter (L) = 1000 milliliters (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illiliter (mL) = 1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or cc) = 1 gram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28"/>
          <p:cNvSpPr txBox="1"/>
          <p:nvPr/>
        </p:nvSpPr>
        <p:spPr>
          <a:xfrm rot="1551000">
            <a:off x="2657160" y="263520"/>
            <a:ext cx="30492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9" name="WordArt 29"/>
          <p:cNvSpPr txBox="1"/>
          <p:nvPr/>
        </p:nvSpPr>
        <p:spPr>
          <a:xfrm rot="20427600">
            <a:off x="874440" y="131400"/>
            <a:ext cx="45720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k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0" name="WordArt 30"/>
          <p:cNvSpPr txBox="1"/>
          <p:nvPr/>
        </p:nvSpPr>
        <p:spPr>
          <a:xfrm rot="20313600">
            <a:off x="6248520" y="2026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1" name="WordArt 31"/>
          <p:cNvSpPr txBox="1"/>
          <p:nvPr/>
        </p:nvSpPr>
        <p:spPr>
          <a:xfrm rot="1338600">
            <a:off x="7924680" y="2044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m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2" name="Text Box 33"/>
          <p:cNvSpPr/>
          <p:nvPr/>
        </p:nvSpPr>
        <p:spPr>
          <a:xfrm>
            <a:off x="304920" y="47847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ich is larg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4"/>
          <p:cNvSpPr/>
          <p:nvPr/>
        </p:nvSpPr>
        <p:spPr>
          <a:xfrm>
            <a:off x="685800" y="5241960"/>
            <a:ext cx="38862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1 liter or 1500 millil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200 milliliters or 1.2 l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12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1.2 milliliters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5"/>
          <p:cNvSpPr/>
          <p:nvPr/>
        </p:nvSpPr>
        <p:spPr>
          <a:xfrm>
            <a:off x="4267080" y="5105520"/>
            <a:ext cx="4267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8"/>
          <p:cNvSpPr/>
          <p:nvPr/>
        </p:nvSpPr>
        <p:spPr>
          <a:xfrm>
            <a:off x="1905120" y="5241960"/>
            <a:ext cx="190476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9"/>
          <p:cNvSpPr/>
          <p:nvPr/>
        </p:nvSpPr>
        <p:spPr>
          <a:xfrm>
            <a:off x="2765520" y="5715000"/>
            <a:ext cx="99036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1003320" y="6156360"/>
            <a:ext cx="83808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2" descr="j0426068"/>
          <p:cNvPicPr/>
          <p:nvPr/>
        </p:nvPicPr>
        <p:blipFill>
          <a:blip r:embed="rId1"/>
          <a:stretch/>
        </p:blipFill>
        <p:spPr>
          <a:xfrm>
            <a:off x="7543800" y="4648320"/>
            <a:ext cx="1251000" cy="11779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3"/>
          <p:cNvSpPr/>
          <p:nvPr/>
        </p:nvSpPr>
        <p:spPr>
          <a:xfrm>
            <a:off x="5791320" y="482436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he image to watch a short video about volu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7"/>
          <p:cNvSpPr/>
          <p:nvPr/>
        </p:nvSpPr>
        <p:spPr>
          <a:xfrm>
            <a:off x="5334120" y="6324480"/>
            <a:ext cx="3657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* When referring to wate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iter Image: http://www.dmturner.org/Teacher/Pictures/liter.g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8" descr=""/>
          <p:cNvPicPr/>
          <p:nvPr/>
        </p:nvPicPr>
        <p:blipFill>
          <a:blip r:embed="rId2"/>
          <a:stretch/>
        </p:blipFill>
        <p:spPr>
          <a:xfrm>
            <a:off x="5410080" y="1066680"/>
            <a:ext cx="358164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1" descr=""/>
          <p:cNvPicPr/>
          <p:nvPr/>
        </p:nvPicPr>
        <p:blipFill>
          <a:blip r:embed="rId1"/>
          <a:srcRect l="0" t="0" r="1485" b="0"/>
          <a:stretch/>
        </p:blipFill>
        <p:spPr>
          <a:xfrm>
            <a:off x="380880" y="3514680"/>
            <a:ext cx="2411640" cy="31147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066680" y="6400800"/>
            <a:ext cx="777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ttom Image: http://www.tea.state.tx.us/student.assessment/resources/online/2006/grade8/science/images/20graphicaa.g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3429000" y="4465800"/>
            <a:ext cx="5410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the measurement based on the bottom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nisc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curv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volume of water in the cylinder? _____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msoDCA80"/>
          <p:cNvPicPr/>
          <p:nvPr/>
        </p:nvPicPr>
        <p:blipFill>
          <a:blip r:embed="rId2"/>
          <a:stretch/>
        </p:blipFill>
        <p:spPr>
          <a:xfrm>
            <a:off x="228600" y="762120"/>
            <a:ext cx="5008680" cy="26668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4876920" y="990720"/>
            <a:ext cx="388620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will be usin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duated cylind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the volume of liquids and other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order to read a graduated cylinder accurately you must get you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y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liqu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Straight Arrow Connector 15"/>
          <p:cNvCxnSpPr/>
          <p:nvPr/>
        </p:nvCxnSpPr>
        <p:spPr>
          <a:xfrm flipH="1" flipV="1">
            <a:off x="2285280" y="4571640"/>
            <a:ext cx="1143720" cy="457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685800" y="6400800"/>
            <a:ext cx="777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: http://morrisonlabs.com/meniscus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38"/>
          <p:cNvGrpSpPr/>
          <p:nvPr/>
        </p:nvGrpSpPr>
        <p:grpSpPr>
          <a:xfrm>
            <a:off x="228600" y="2209680"/>
            <a:ext cx="8915400" cy="2297880"/>
            <a:chOff x="228600" y="2209680"/>
            <a:chExt cx="8915400" cy="2297880"/>
          </a:xfrm>
        </p:grpSpPr>
        <p:pic>
          <p:nvPicPr>
            <p:cNvPr id="74" name="Picture 35" descr=""/>
            <p:cNvPicPr/>
            <p:nvPr/>
          </p:nvPicPr>
          <p:blipFill>
            <a:blip r:embed="rId1"/>
            <a:stretch/>
          </p:blipFill>
          <p:spPr>
            <a:xfrm>
              <a:off x="228600" y="2362320"/>
              <a:ext cx="28162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36"/>
            <p:cNvSpPr/>
            <p:nvPr/>
          </p:nvSpPr>
          <p:spPr>
            <a:xfrm>
              <a:off x="3200400" y="2209680"/>
              <a:ext cx="5943600" cy="229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What causes the meniscus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 concave meniscus because water is more attracted to the glass that it is to itself.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Liquid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 rot="16200000">
            <a:off x="5607720" y="3396240"/>
            <a:ext cx="670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s created at http://www.standards.dfes.gov.uk/primaryframework/downloads/SWF/measuring_cylinder.sw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228600" y="7462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volume of water in each cylind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"/>
          <p:cNvPicPr/>
          <p:nvPr/>
        </p:nvPicPr>
        <p:blipFill>
          <a:blip r:embed="rId1"/>
          <a:srcRect l="22916" t="27777" r="62502" b="12963"/>
          <a:stretch/>
        </p:blipFill>
        <p:spPr>
          <a:xfrm>
            <a:off x="3770280" y="1295280"/>
            <a:ext cx="1674720" cy="5105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"/>
          <p:cNvPicPr/>
          <p:nvPr/>
        </p:nvPicPr>
        <p:blipFill>
          <a:blip r:embed="rId2"/>
          <a:srcRect l="22916" t="27781" r="62502" b="12963"/>
          <a:stretch/>
        </p:blipFill>
        <p:spPr>
          <a:xfrm>
            <a:off x="685800" y="1295280"/>
            <a:ext cx="1673280" cy="5099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"/>
          <p:cNvPicPr/>
          <p:nvPr/>
        </p:nvPicPr>
        <p:blipFill>
          <a:blip r:embed="rId3"/>
          <a:srcRect l="22916" t="27781" r="62502" b="12963"/>
          <a:stretch/>
        </p:blipFill>
        <p:spPr>
          <a:xfrm>
            <a:off x="6858000" y="1295280"/>
            <a:ext cx="1660680" cy="50612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3"/>
          <p:cNvSpPr/>
          <p:nvPr/>
        </p:nvSpPr>
        <p:spPr>
          <a:xfrm>
            <a:off x="152280" y="64612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y attention to the scales for each cylin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14"/>
          <p:cNvSpPr txBox="1"/>
          <p:nvPr/>
        </p:nvSpPr>
        <p:spPr>
          <a:xfrm>
            <a:off x="762120" y="54864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5" name="WordArt 15"/>
          <p:cNvSpPr txBox="1"/>
          <p:nvPr/>
        </p:nvSpPr>
        <p:spPr>
          <a:xfrm>
            <a:off x="3838680" y="54864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6" name="WordArt 16"/>
          <p:cNvSpPr txBox="1"/>
          <p:nvPr/>
        </p:nvSpPr>
        <p:spPr>
          <a:xfrm>
            <a:off x="6934320" y="54864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7" name="TextBox 12"/>
          <p:cNvSpPr/>
          <p:nvPr/>
        </p:nvSpPr>
        <p:spPr>
          <a:xfrm>
            <a:off x="2666880" y="2738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2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3"/>
          <p:cNvSpPr/>
          <p:nvPr/>
        </p:nvSpPr>
        <p:spPr>
          <a:xfrm>
            <a:off x="5638680" y="1752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7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5562720" y="32004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2.6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Straight Arrow Connector 16"/>
          <p:cNvCxnSpPr/>
          <p:nvPr/>
        </p:nvCxnSpPr>
        <p:spPr>
          <a:xfrm flipH="1">
            <a:off x="2057040" y="3200400"/>
            <a:ext cx="83880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1" name="Straight Arrow Connector 18"/>
          <p:cNvCxnSpPr/>
          <p:nvPr/>
        </p:nvCxnSpPr>
        <p:spPr>
          <a:xfrm flipH="1">
            <a:off x="5105160" y="2209680"/>
            <a:ext cx="83880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2" name="Straight Arrow Connector 19"/>
          <p:cNvCxnSpPr/>
          <p:nvPr/>
        </p:nvCxnSpPr>
        <p:spPr>
          <a:xfrm>
            <a:off x="6172200" y="3657240"/>
            <a:ext cx="915120" cy="305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4" descr=""/>
          <p:cNvPicPr/>
          <p:nvPr/>
        </p:nvPicPr>
        <p:blipFill>
          <a:blip r:embed="rId1"/>
          <a:stretch/>
        </p:blipFill>
        <p:spPr>
          <a:xfrm>
            <a:off x="4800600" y="2590920"/>
            <a:ext cx="3533760" cy="40003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Solid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52280" y="6095880"/>
            <a:ext cx="5257800" cy="580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here for an online activity about volume.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oose Lessons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olume &amp; Displa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9"/>
          <p:cNvGrpSpPr/>
          <p:nvPr/>
        </p:nvGrpSpPr>
        <p:grpSpPr>
          <a:xfrm>
            <a:off x="380880" y="838080"/>
            <a:ext cx="2895480" cy="2198520"/>
            <a:chOff x="380880" y="838080"/>
            <a:chExt cx="2895480" cy="2198520"/>
          </a:xfrm>
        </p:grpSpPr>
        <p:sp>
          <p:nvSpPr>
            <p:cNvPr id="98" name="AutoShape 12"/>
            <p:cNvSpPr/>
            <p:nvPr/>
          </p:nvSpPr>
          <p:spPr>
            <a:xfrm>
              <a:off x="380880" y="838080"/>
              <a:ext cx="2084400" cy="1766880"/>
            </a:xfrm>
            <a:prstGeom prst="cube">
              <a:avLst>
                <a:gd name="adj" fmla="val 25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3"/>
            <p:cNvSpPr/>
            <p:nvPr/>
          </p:nvSpPr>
          <p:spPr>
            <a:xfrm>
              <a:off x="687240" y="2668320"/>
              <a:ext cx="91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4"/>
            <p:cNvSpPr/>
            <p:nvPr/>
          </p:nvSpPr>
          <p:spPr>
            <a:xfrm>
              <a:off x="2357280" y="1279440"/>
              <a:ext cx="91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5"/>
            <p:cNvSpPr/>
            <p:nvPr/>
          </p:nvSpPr>
          <p:spPr>
            <a:xfrm>
              <a:off x="2097000" y="2288880"/>
              <a:ext cx="91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 Box 11"/>
          <p:cNvSpPr/>
          <p:nvPr/>
        </p:nvSpPr>
        <p:spPr>
          <a:xfrm>
            <a:off x="3394080" y="990720"/>
            <a:ext cx="494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measure the volume of regular object using the formul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ngth x width x he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3200400" y="213372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 X _____ X _____ =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23"/>
          <p:cNvGrpSpPr/>
          <p:nvPr/>
        </p:nvGrpSpPr>
        <p:grpSpPr>
          <a:xfrm>
            <a:off x="411120" y="3295800"/>
            <a:ext cx="8597880" cy="3409920"/>
            <a:chOff x="411120" y="3295800"/>
            <a:chExt cx="8597880" cy="3409920"/>
          </a:xfrm>
        </p:grpSpPr>
        <p:sp>
          <p:nvSpPr>
            <p:cNvPr id="105" name="Text Box 4"/>
            <p:cNvSpPr/>
            <p:nvPr/>
          </p:nvSpPr>
          <p:spPr>
            <a:xfrm rot="16200000">
              <a:off x="7209360" y="4906080"/>
              <a:ext cx="3200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ttp://www.cstephenmurray.com/onlinequizes/chemistry/measuring/displacementmethod.ht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5"/>
            <p:cNvSpPr/>
            <p:nvPr/>
          </p:nvSpPr>
          <p:spPr>
            <a:xfrm>
              <a:off x="411120" y="3295800"/>
              <a:ext cx="4724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e can measure the volume of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rregular object using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ater displacemen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8"/>
            <p:cNvSpPr/>
            <p:nvPr/>
          </p:nvSpPr>
          <p:spPr>
            <a:xfrm>
              <a:off x="533520" y="4191120"/>
              <a:ext cx="3733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mount of 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 with object = ______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bout of 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 without object = ______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fference = Volume = 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Box 16"/>
          <p:cNvSpPr/>
          <p:nvPr/>
        </p:nvSpPr>
        <p:spPr>
          <a:xfrm>
            <a:off x="3962520" y="20574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7"/>
          <p:cNvSpPr/>
          <p:nvPr/>
        </p:nvSpPr>
        <p:spPr>
          <a:xfrm>
            <a:off x="5029200" y="20574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8"/>
          <p:cNvSpPr/>
          <p:nvPr/>
        </p:nvSpPr>
        <p:spPr>
          <a:xfrm>
            <a:off x="5943600" y="20574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9"/>
          <p:cNvSpPr/>
          <p:nvPr/>
        </p:nvSpPr>
        <p:spPr>
          <a:xfrm>
            <a:off x="6858000" y="2057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20 cm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1"/>
          <p:cNvSpPr/>
          <p:nvPr/>
        </p:nvSpPr>
        <p:spPr>
          <a:xfrm>
            <a:off x="3581280" y="45720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4.8 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2"/>
          <p:cNvSpPr/>
          <p:nvPr/>
        </p:nvSpPr>
        <p:spPr>
          <a:xfrm>
            <a:off x="3581280" y="40384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5.6 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3"/>
          <p:cNvSpPr/>
          <p:nvPr/>
        </p:nvSpPr>
        <p:spPr>
          <a:xfrm>
            <a:off x="3581280" y="508644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0.8 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07:00:53Z</dcterms:created>
  <dc:creator>Tracy Trimpe</dc:creator>
  <dc:description/>
  <dc:language>en-US</dc:language>
  <cp:lastModifiedBy>Tech Support</cp:lastModifiedBy>
  <dcterms:modified xsi:type="dcterms:W3CDTF">2010-08-26T03:41:03Z</dcterms:modified>
  <cp:revision>43</cp:revision>
  <dc:subject/>
  <dc:title>Slide 1</dc:title>
</cp:coreProperties>
</file>