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9B8-D893-4158-8692-BBF689F4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E1F-EF3F-4AE2-ADCB-67EB7257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3A3-560C-4D36-8104-A9B85F90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2B9-2C34-4E38-B0D7-301703F3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504-F904-44BE-9AB1-77634F10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740-2C63-4F4B-BDDD-373761BA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E0C-F3DD-4E77-A5F0-364E21C6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0DC-8EA1-4C07-B4B5-2F463820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655-D334-4401-A715-B403CF3E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9AE-5F37-433B-B070-9976830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8F7-FBED-4FA8-A765-C63E1845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178-BDCD-4A41-A31D-9312740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06E8-A245-4C19-9B9E-A0BF2BA8D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495320" y="91440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Make Room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obo Std"/>
                <a:ea typeface="Hobo Std"/>
              </a:rPr>
              <a:t>for Volu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fied from 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Cj02903500000[1]"/>
          <p:cNvPicPr/>
          <p:nvPr/>
        </p:nvPicPr>
        <p:blipFill>
          <a:blip r:embed="rId1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35146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06668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tea.state.tx.us/student.assessment/resources/online/2006/grade8/science/images/20graphicaa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3429000" y="4465800"/>
            <a:ext cx="5410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soDCA80"/>
          <p:cNvPicPr/>
          <p:nvPr/>
        </p:nvPicPr>
        <p:blipFill>
          <a:blip r:embed="rId2"/>
          <a:stretch/>
        </p:blipFill>
        <p:spPr>
          <a:xfrm>
            <a:off x="228600" y="76212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876920" y="990720"/>
            <a:ext cx="38862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ad a graduated cylinder accurately you must get you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liq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5"/>
          <p:cNvCxnSpPr/>
          <p:nvPr/>
        </p:nvCxnSpPr>
        <p:spPr>
          <a:xfrm flipH="1" flipV="1">
            <a:off x="2285280" y="4571640"/>
            <a:ext cx="114372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85800" y="64008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8"/>
          <p:cNvGrpSpPr/>
          <p:nvPr/>
        </p:nvGrpSpPr>
        <p:grpSpPr>
          <a:xfrm>
            <a:off x="228600" y="2209680"/>
            <a:ext cx="8915400" cy="2297880"/>
            <a:chOff x="228600" y="2209680"/>
            <a:chExt cx="8915400" cy="2297880"/>
          </a:xfrm>
        </p:grpSpPr>
        <p:pic>
          <p:nvPicPr>
            <p:cNvPr id="74" name="Picture 35" descr=""/>
            <p:cNvPicPr/>
            <p:nvPr/>
          </p:nvPicPr>
          <p:blipFill>
            <a:blip r:embed="rId1"/>
            <a:stretch/>
          </p:blipFill>
          <p:spPr>
            <a:xfrm>
              <a:off x="228600" y="2362320"/>
              <a:ext cx="2816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6"/>
            <p:cNvSpPr/>
            <p:nvPr/>
          </p:nvSpPr>
          <p:spPr>
            <a:xfrm>
              <a:off x="3200400" y="2209680"/>
              <a:ext cx="594360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 concave meniscus because water is more attracted to the glass that it is to itself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666880" y="27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2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563868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7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55627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.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16"/>
          <p:cNvCxnSpPr/>
          <p:nvPr/>
        </p:nvCxnSpPr>
        <p:spPr>
          <a:xfrm flipH="1">
            <a:off x="2057040" y="320040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Straight Arrow Connector 18"/>
          <p:cNvCxnSpPr/>
          <p:nvPr/>
        </p:nvCxnSpPr>
        <p:spPr>
          <a:xfrm flipH="1">
            <a:off x="5105160" y="2209680"/>
            <a:ext cx="83880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2" name="Straight Arrow Connector 19"/>
          <p:cNvCxnSpPr/>
          <p:nvPr/>
        </p:nvCxnSpPr>
        <p:spPr>
          <a:xfrm>
            <a:off x="6172200" y="3657240"/>
            <a:ext cx="91512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4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533760" cy="4000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98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411120" y="3295800"/>
            <a:ext cx="8597880" cy="3409920"/>
            <a:chOff x="411120" y="3295800"/>
            <a:chExt cx="8597880" cy="3409920"/>
          </a:xfrm>
        </p:grpSpPr>
        <p:sp>
          <p:nvSpPr>
            <p:cNvPr id="105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cstephenmurray.com/onlinequizes/chemistry/measuring/displacementmethod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6"/>
          <p:cNvSpPr/>
          <p:nvPr/>
        </p:nvSpPr>
        <p:spPr>
          <a:xfrm>
            <a:off x="396252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50292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59436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858000" y="2057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0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3581280" y="4572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358128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.6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3581280" y="50864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8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00:53Z</dcterms:created>
  <dc:creator>Tracy Trimpe</dc:creator>
  <dc:description/>
  <dc:language>en-US</dc:language>
  <cp:lastModifiedBy>Tech Support</cp:lastModifiedBy>
  <dcterms:modified xsi:type="dcterms:W3CDTF">2010-08-26T03:41:03Z</dcterms:modified>
  <cp:revision>43</cp:revision>
  <dc:subject/>
  <dc:title>Slide 1</dc:title>
</cp:coreProperties>
</file>