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480-FF78-4382-BF8F-2001651B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ED6-267B-4E76-BDF6-30A8BDBD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1AD-8820-441F-94A1-7B8E95A6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2F3-8BAC-4356-8C65-64B54C50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916-0C75-4E50-9034-0D6F382B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6F8-3495-4913-A334-195B21AE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11E-BA90-4546-B8AD-2C68A950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D7D-B9ED-4D44-993B-BF59DE5B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77F-097D-44FD-B24B-64E0A295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549-38ED-4258-AD4A-9BDE0000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DEF-5CC7-48C0-8E9B-59D3E43C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300-E251-403C-A914-9BE85AEA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88A8-24F5-4BD5-B39B-13A47E840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95320" y="91440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Make Room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for Volu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i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Cj02903500000[1]"/>
          <p:cNvPicPr/>
          <p:nvPr/>
        </p:nvPicPr>
        <p:blipFill>
          <a:blip r:embed="rId1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35146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6668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tea.state.tx.us/student.assessment/resources/online/2006/grade8/science/images/20graphicaa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3429000" y="4465800"/>
            <a:ext cx="5410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soDCA80"/>
          <p:cNvPicPr/>
          <p:nvPr/>
        </p:nvPicPr>
        <p:blipFill>
          <a:blip r:embed="rId2"/>
          <a:stretch/>
        </p:blipFill>
        <p:spPr>
          <a:xfrm>
            <a:off x="228600" y="76212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876920" y="990720"/>
            <a:ext cx="3886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ad a graduated cylinder accurately you must get you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liq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5"/>
          <p:cNvCxnSpPr/>
          <p:nvPr/>
        </p:nvCxnSpPr>
        <p:spPr>
          <a:xfrm flipH="1" flipV="1">
            <a:off x="2285280" y="4571640"/>
            <a:ext cx="114372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8580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8"/>
          <p:cNvGrpSpPr/>
          <p:nvPr/>
        </p:nvGrpSpPr>
        <p:grpSpPr>
          <a:xfrm>
            <a:off x="228600" y="2209680"/>
            <a:ext cx="8915400" cy="2297880"/>
            <a:chOff x="228600" y="2209680"/>
            <a:chExt cx="8915400" cy="2297880"/>
          </a:xfrm>
        </p:grpSpPr>
        <p:pic>
          <p:nvPicPr>
            <p:cNvPr id="74" name="Picture 35" descr=""/>
            <p:cNvPicPr/>
            <p:nvPr/>
          </p:nvPicPr>
          <p:blipFill>
            <a:blip r:embed="rId1"/>
            <a:stretch/>
          </p:blipFill>
          <p:spPr>
            <a:xfrm>
              <a:off x="228600" y="2362320"/>
              <a:ext cx="281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6"/>
            <p:cNvSpPr/>
            <p:nvPr/>
          </p:nvSpPr>
          <p:spPr>
            <a:xfrm>
              <a:off x="3200400" y="2209680"/>
              <a:ext cx="594360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 concave meniscus because water is more attracted to the glass that it is to itself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666880" y="27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2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56386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5627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16"/>
          <p:cNvCxnSpPr/>
          <p:nvPr/>
        </p:nvCxnSpPr>
        <p:spPr>
          <a:xfrm flipH="1">
            <a:off x="2057040" y="320040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Straight Arrow Connector 18"/>
          <p:cNvCxnSpPr/>
          <p:nvPr/>
        </p:nvCxnSpPr>
        <p:spPr>
          <a:xfrm flipH="1">
            <a:off x="5105160" y="220968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2" name="Straight Arrow Connector 19"/>
          <p:cNvCxnSpPr/>
          <p:nvPr/>
        </p:nvCxnSpPr>
        <p:spPr>
          <a:xfrm>
            <a:off x="6172200" y="3657240"/>
            <a:ext cx="91512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4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33760" cy="4000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98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411120" y="3295800"/>
            <a:ext cx="8597880" cy="3409920"/>
            <a:chOff x="411120" y="3295800"/>
            <a:chExt cx="8597880" cy="3409920"/>
          </a:xfrm>
        </p:grpSpPr>
        <p:sp>
          <p:nvSpPr>
            <p:cNvPr id="105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cstephenmurray.com/onlinequizes/chemistry/measuring/displacementmethod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6"/>
          <p:cNvSpPr/>
          <p:nvPr/>
        </p:nvSpPr>
        <p:spPr>
          <a:xfrm>
            <a:off x="396252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50292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59436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85800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0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3581280" y="457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358128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.6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3581280" y="50864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00:53Z</dcterms:created>
  <dc:creator>Tracy Trimpe</dc:creator>
  <dc:description/>
  <dc:language>en-US</dc:language>
  <cp:lastModifiedBy>Tech Support</cp:lastModifiedBy>
  <dcterms:modified xsi:type="dcterms:W3CDTF">2010-08-26T03:41:03Z</dcterms:modified>
  <cp:revision>43</cp:revision>
  <dc:subject/>
  <dc:title>Slide 1</dc:title>
</cp:coreProperties>
</file>