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3BE-057E-47AE-8E3F-26ABA7B7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199-696A-48B6-B5FA-AC5AE654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588-3944-4BFC-9DD6-E2159927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B5E-E2E3-4C78-8767-79B99A4D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47E-7B72-4962-9858-A5E1A402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902-3C74-44C7-9B4E-F0F9FA4E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C25E-59AD-48EC-942D-EF31E2F4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027-D941-4253-939F-8F49B11D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C23-A706-4C74-B367-D70266A4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AC8-A624-47DC-B1A7-3A3A4892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93D-B1A7-4CB7-98EB-7E0C3E60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53D-FE3C-4EAB-A06E-FF54631F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13AD-3EE5-403D-A478-58E232000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495320" y="91440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obo Std"/>
                <a:ea typeface="Hobo Std"/>
              </a:rPr>
              <a:t>Make Room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obo Std"/>
                <a:ea typeface="Hobo Std"/>
              </a:rPr>
              <a:t>for Volu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ied from 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Cj02903500000[1]"/>
          <p:cNvPicPr/>
          <p:nvPr/>
        </p:nvPicPr>
        <p:blipFill>
          <a:blip r:embed="rId1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28"/>
          <p:cNvSpPr txBox="1"/>
          <p:nvPr/>
        </p:nvSpPr>
        <p:spPr>
          <a:xfrm rot="1551000">
            <a:off x="2657160" y="263520"/>
            <a:ext cx="304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2" descr="j0426068"/>
          <p:cNvPicPr/>
          <p:nvPr/>
        </p:nvPicPr>
        <p:blipFill>
          <a:blip r:embed="rId1"/>
          <a:stretch/>
        </p:blipFill>
        <p:spPr>
          <a:xfrm>
            <a:off x="7543800" y="46483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3"/>
          <p:cNvSpPr/>
          <p:nvPr/>
        </p:nvSpPr>
        <p:spPr>
          <a:xfrm>
            <a:off x="5791320" y="4824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volu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7"/>
          <p:cNvSpPr/>
          <p:nvPr/>
        </p:nvSpPr>
        <p:spPr>
          <a:xfrm>
            <a:off x="5334120" y="63244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8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35146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066680" y="640080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tea.state.tx.us/student.assessment/resources/online/2006/grade8/science/images/20graphicaa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3429000" y="4465800"/>
            <a:ext cx="5410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msoDCA80"/>
          <p:cNvPicPr/>
          <p:nvPr/>
        </p:nvPicPr>
        <p:blipFill>
          <a:blip r:embed="rId2"/>
          <a:stretch/>
        </p:blipFill>
        <p:spPr>
          <a:xfrm>
            <a:off x="228600" y="762120"/>
            <a:ext cx="500868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876920" y="990720"/>
            <a:ext cx="38862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read a graduated cylinder accurately you must get you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liq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5"/>
          <p:cNvCxnSpPr/>
          <p:nvPr/>
        </p:nvCxnSpPr>
        <p:spPr>
          <a:xfrm flipH="1" flipV="1">
            <a:off x="2285280" y="4571640"/>
            <a:ext cx="114372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85800" y="640080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8"/>
          <p:cNvGrpSpPr/>
          <p:nvPr/>
        </p:nvGrpSpPr>
        <p:grpSpPr>
          <a:xfrm>
            <a:off x="228600" y="2209680"/>
            <a:ext cx="8915400" cy="2297880"/>
            <a:chOff x="228600" y="2209680"/>
            <a:chExt cx="8915400" cy="2297880"/>
          </a:xfrm>
        </p:grpSpPr>
        <p:pic>
          <p:nvPicPr>
            <p:cNvPr id="74" name="Picture 35" descr=""/>
            <p:cNvPicPr/>
            <p:nvPr/>
          </p:nvPicPr>
          <p:blipFill>
            <a:blip r:embed="rId1"/>
            <a:stretch/>
          </p:blipFill>
          <p:spPr>
            <a:xfrm>
              <a:off x="228600" y="2362320"/>
              <a:ext cx="2816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36"/>
            <p:cNvSpPr/>
            <p:nvPr/>
          </p:nvSpPr>
          <p:spPr>
            <a:xfrm>
              <a:off x="3200400" y="2209680"/>
              <a:ext cx="594360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 concave meniscus because water is more attracted to the glass that it is to itself.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2666880" y="273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2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5638680" y="1752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7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55627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.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16"/>
          <p:cNvCxnSpPr/>
          <p:nvPr/>
        </p:nvCxnSpPr>
        <p:spPr>
          <a:xfrm flipH="1">
            <a:off x="2057040" y="3200400"/>
            <a:ext cx="8388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" name="Straight Arrow Connector 18"/>
          <p:cNvCxnSpPr/>
          <p:nvPr/>
        </p:nvCxnSpPr>
        <p:spPr>
          <a:xfrm flipH="1">
            <a:off x="5105160" y="2209680"/>
            <a:ext cx="8388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2" name="Straight Arrow Connector 19"/>
          <p:cNvCxnSpPr/>
          <p:nvPr/>
        </p:nvCxnSpPr>
        <p:spPr>
          <a:xfrm>
            <a:off x="6172200" y="3657240"/>
            <a:ext cx="91512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4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533760" cy="4000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here for an online activity about volume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98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411120" y="3295800"/>
            <a:ext cx="8597880" cy="3409920"/>
            <a:chOff x="411120" y="3295800"/>
            <a:chExt cx="8597880" cy="3409920"/>
          </a:xfrm>
        </p:grpSpPr>
        <p:sp>
          <p:nvSpPr>
            <p:cNvPr id="105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cstephenmurray.com/onlinequizes/chemistry/measuring/displacementmethod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6"/>
          <p:cNvSpPr/>
          <p:nvPr/>
        </p:nvSpPr>
        <p:spPr>
          <a:xfrm>
            <a:off x="396252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50292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59436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858000" y="2057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20 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3581280" y="4572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.8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358128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.6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3581280" y="50864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8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7:00:53Z</dcterms:created>
  <dc:creator>Tracy Trimpe</dc:creator>
  <dc:description/>
  <dc:language>en-US</dc:language>
  <cp:lastModifiedBy>Tech Support</cp:lastModifiedBy>
  <dcterms:modified xsi:type="dcterms:W3CDTF">2010-08-26T03:41:03Z</dcterms:modified>
  <cp:revision>43</cp:revision>
  <dc:subject/>
  <dc:title>Slide 1</dc:title>
</cp:coreProperties>
</file>