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6.png" ContentType="image/png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7A5-1D7F-4414-8DCE-18F764E3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FCB-BAC8-42EB-8FE3-5CDFB94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B65-DA79-4BCD-A11A-16AB9658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3FD-C468-4C56-9507-B7A5AC7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456-0098-4D0F-A6D8-5C02F65A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6294-4BDF-4411-BCD7-31878CC5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137-6B2F-4509-A798-5DF60899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050F-8D68-4A16-A117-892CD271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800A-D7DF-41F8-ADE5-5F909B2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F49-AAF2-489C-A04F-07B05E3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A54-B491-4F74-BAEB-EDC7A81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2A2-8B9F-4F68-822E-A8D02B2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CF60-BB3F-4F6A-81A6-1C8E901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C49-9B07-451D-BFE0-E517AE5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0609-B778-4BBA-9703-05A0AA4E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A04-6006-4799-A83F-34A4615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7CD7-7B6B-47DB-BA51-944E7AD9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EBAC-B3A6-45D2-896D-16F0D572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41D4-506B-44C7-A204-C3EB3C26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2744-1BBA-4206-8736-BD89E8AE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F0CA-9555-48E1-8F17-E0609777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6B6E-81AB-4BD3-BB33-0D9F84A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947-E53C-4269-BCB7-FD26D8B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B0E0-09D2-490E-858F-FD58702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EF2A-EEF9-405C-991C-4D08AB7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ED40-EC37-4718-87EF-84EB5A39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A43F-5A83-43BA-B294-C910E43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06AD-EA90-4760-90F6-9B83AE36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7DEA-60D6-4EF6-87EB-75318B1F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29FB-6883-4210-A800-F36E32CA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DF5-17D2-4598-B32F-4669B49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62D-7602-4D21-BE2B-9DE0914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B97-16DC-41D1-89F8-9D446F0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4D6-9D35-4B5C-B460-2DC578E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E7A-33D8-4038-9DAC-0EAC6E3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349-B45C-45C9-8BAF-D42E8E7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82B9-31F4-442C-97A6-AC4881C4E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7D3F-5EFA-40D6-8089-6C58CE08CC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6E95-BA03-4FA1-99DB-D7CA5A7A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ffcc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6699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0066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89ba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89ba00"/>
                </a:gs>
                <a:gs pos="50000">
                  <a:srgbClr val="669900"/>
                </a:gs>
                <a:gs pos="100000">
                  <a:srgbClr val="89b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B5C-FD4E-4B73-BF06-3B39454FC7F9}" type="datetime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6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C5DD-62BE-4916-AB06-310D98B15CCB}" type="slidenum">
              <a:rPr b="0" lang="en-US" sz="1400" spc="-1" strike="noStrike">
                <a:solidFill>
                  <a:srgbClr val="001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103-9EC6-4606-B458-C031D5BF539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ools of a Scienti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1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1000___ mL     160 cm = ___1600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14000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0.109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0.250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33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34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&lt;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&gt;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57200" y="99072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2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5000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160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104000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0.198____ kg 21) 2500 m = ____2.5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4.8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243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92468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1371600" y="6019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E05-5278-4081-8308-94AB7D18DE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identify different tools used in science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determine the appropriate units to use for particular measurements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1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600"/>
                </a:solidFill>
                <a:latin typeface="Times New Roman"/>
              </a:rPr>
              <a:t>To convert from one metric unit to another.</a:t>
            </a:r>
            <a:endParaRPr b="0" lang="en-US" sz="3600" spc="-1" strike="noStrike">
              <a:solidFill>
                <a:srgbClr val="001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ould you use a hammer to tighter a bolt on a bicycle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tool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is anything that helps you do a task (BUT tools designed to perform specific tasks work better than a substitute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CF34-52F0-4EA8-B183-A9249D17DE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66AC-8FB4-4F27-8E2E-9EEC772088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76320" y="1282680"/>
            <a:ext cx="8991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ational System of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Scientists use a common language and system of measuring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This system is called the </a:t>
            </a:r>
            <a:r>
              <a:rPr b="0" i="1" lang="en-US" sz="3200" spc="-1" strike="noStrike">
                <a:solidFill>
                  <a:srgbClr val="001600"/>
                </a:solidFill>
                <a:latin typeface="Times New Roman"/>
              </a:rPr>
              <a:t>International System of Units </a:t>
            </a: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or SI. (We sometimes call this the metric system)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1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600"/>
                </a:solidFill>
                <a:latin typeface="Times New Roman"/>
              </a:rPr>
              <a:t>By having a common language scientists can easily compare their data.</a:t>
            </a: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3D4-33FF-4678-BB20-C08B3F6FA1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50000">
              <a:srgbClr val="6699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533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dvantage of SI units is that all units are based on the number 1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426708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kes it very easy to convert from one unit to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6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FC8-52CF-4480-B94C-65C724FDC5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rs. Ba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28600" y="692280"/>
            <a:ext cx="8686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180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s Using the 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184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188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191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194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198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201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205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206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210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211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215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216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 mL          160 cm = 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224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225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4:17:31Z</dcterms:created>
  <dc:creator>Tracy Trimpe</dc:creator>
  <dc:description/>
  <dc:language>en-US</dc:language>
  <cp:lastModifiedBy>Teacher</cp:lastModifiedBy>
  <dcterms:modified xsi:type="dcterms:W3CDTF">2010-08-23T09:10:37Z</dcterms:modified>
  <cp:revision>32</cp:revision>
  <dc:subject/>
  <dc:title>Slide 1</dc:title>
</cp:coreProperties>
</file>