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6.png" ContentType="image/png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7B0-39F6-4A6F-9238-B29ACCFA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3DC-3CC2-40FA-AC19-0A7FCE8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CFB-4F70-475E-A6C4-7AE189AC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AF0-6EA4-416D-9EAD-C0163CD1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17BA-9012-41B5-9FBB-C715B09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FA24-A140-4E4B-9675-FA184987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DEC3-E947-4B47-AD90-8D885C14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8C9-2539-4CC3-BF1E-EA8FFDD6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88F-69A3-4E8E-BF5C-0E2335A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2B7-42A5-447A-BA41-1F0F9192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C31E-2B95-49EE-8C39-62B6DCD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494-0843-41DA-866C-B7742402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6B31-EB9D-495A-9706-107C6A6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7BBF-8FAD-40EC-9ADD-9DCE353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07A2-58F2-4E8B-B621-E140343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6054-7318-44AF-8CAE-FC70AD96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9A2E-3077-4D52-9266-3EDBF070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8BAB-4308-4F7B-AAC8-B8326E24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C54F-3E86-46A0-A3A9-8E4DD812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C84F-632F-4E30-8B86-B20CAED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F1A4-46C1-45BC-81EA-54A6474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9CC0-79B7-4B24-AE95-7DCC94D4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BAE-9107-4D6C-8921-F5D36604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7579-02D6-4D83-9D11-7393D1A2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12EA-5339-4BFF-AA96-36D08EC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A554C-D6ED-4892-9CC0-32E4419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A960-FED9-44F4-B69C-4DCA978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C039-F444-4FA5-8273-3E826AC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741D-0ADC-4C7A-81F9-D6FD420B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43BD-AB57-4AA6-8997-A14140EF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4FD-A912-4265-BE8C-077C101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3C2-EBDB-4E54-83CA-6F36723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1BC-7AF9-4240-B2AA-698E2C12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7AF-30DA-4F1A-B38C-C403E72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FA0-F9C0-44AF-8232-3A843DC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F7E-3B0F-4E54-AE6F-17CE9FF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2B6A-B710-42EE-A90B-1F42B0B95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1EF-2DBE-40EF-B393-0E1782B5A6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9FE-BBB7-4E14-9198-F394961D9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26CE-1AC8-4EB0-8654-E44B00F8D7EB}" type="datetime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B54-F330-409B-A42A-9D338BB81A2E}" type="slidenum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2978-F2D9-488D-A30A-9CF4FAEFF5C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ools of a Scient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1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1000___ mL     160 cm = ___1600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14000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0.109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0.250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33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34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&lt;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&gt;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57200" y="99072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2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5000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160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104000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0.198____ kg 21) 2500 m = ____2.5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4.8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243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92468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13716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2864-48D6-4A89-ACB4-607BF90BA5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identify different tools used in science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determine the appropriate units to use for particular measurements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convert from one metric unit to another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ould you use a hammer to tighter a bolt on a bicycle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tool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is anything that helps you do a task (BUT tools designed to perform specific tasks work better than a substitute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92C-636B-475D-9D37-C084EC14E0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326E-A449-46AE-90C2-EEBC7B60D5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76320" y="1282680"/>
            <a:ext cx="8991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ational System of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cientists use a common language and system of measuring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s system is called the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International System of Units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or SI. (We sometimes call this the metric system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By having a common language scientists can easily compare their data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6250-CE5D-4B1E-9896-146B78B9AA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533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dvantage of SI units is that all units are based on the number 1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4267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kes it very easy to convert from one unit to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D4D2-8450-4996-BAE9-F56670D233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28600" y="692280"/>
            <a:ext cx="8686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180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s Using the 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184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188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191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194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198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201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205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206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210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211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215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216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 mL          160 cm = 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24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25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4:17:31Z</dcterms:created>
  <dc:creator>Tracy Trimpe</dc:creator>
  <dc:description/>
  <dc:language>en-US</dc:language>
  <cp:lastModifiedBy>Teacher</cp:lastModifiedBy>
  <dcterms:modified xsi:type="dcterms:W3CDTF">2010-08-23T09:10:37Z</dcterms:modified>
  <cp:revision>32</cp:revision>
  <dc:subject/>
  <dc:title>Slide 1</dc:title>
</cp:coreProperties>
</file>