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camera.wav" ContentType="audio/x-wav"/>
  <Override PartName="/ppt/media/image6.png" ContentType="image/png"/>
  <Override PartName="/ppt/media/image1.jpeg" ContentType="image/jpeg"/>
  <Override PartName="/ppt/media/image5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DCDF-371B-430A-AE43-D662E5C4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725-B2F9-4AFB-AF16-B104B3C1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630-5682-4452-AE13-80D36454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9EB-0315-4AB7-A736-978DD7D9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47B4-6A6B-4475-B332-354788E1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95FF-C423-401E-94F2-3816D646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FD11-8008-4C19-AC12-94058199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55D6-283D-4A8F-A397-9698FCF9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751D-D8C7-4B59-AF44-E456D095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6318-CFA5-4685-84F0-BBC44BBE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5B06-B548-4091-8F5D-7867041F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F8F5-02EA-4321-9B6C-F58073DA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0566-1C61-464E-9CF0-BC16EA3D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941B-A093-43BA-A3A2-0E97C7FF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4ADE-FAF3-40E2-8D1A-B22005C6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A70C-3134-4BD0-B8B9-2BC62A70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61DF-B69C-432B-8F85-A03E2300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EA535-EB5E-44F4-BE69-EFD0F18B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5C06F-FC74-4772-B832-3709ABF2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D5AD9-89D2-4748-80C6-2BD574AA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02429-87FD-4AA8-8D54-1D1F51C0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B8814-BE64-4C28-BE56-03F1BDC2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FE34-ED6E-44FB-9A8D-5C8B2088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BBCBD-BAB2-4AAF-88D4-DE4C366F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44D64-ABF3-41BB-A389-51A2566A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98C20-5421-4B96-9E64-1738B854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10C0F-C4DD-4E9E-A80B-15880324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3DAAE-4B67-44C3-9B0C-4EC504A4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AE440-D8F2-4258-B49A-C0A11797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DDC76-5808-4FA2-8C80-FE72959B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67DC-54ED-4877-9417-06E7A931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FC3-5E54-4F36-B257-FC12B6DA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A15-933F-4F68-8510-202A2905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15A-F9B1-4383-804D-83223ED6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8AB4-A368-4EE8-B6E9-E0B8FB3D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83B0-B478-44E5-8635-8D64FD4A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A465-66F2-4C4F-B450-B0FC03BB1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42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cc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0066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03CB-4936-49C8-9577-976776F007C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4BEF-1BB7-4E5D-A9E0-7386ECAFC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92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cc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0066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6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DBFD-7F71-41CC-AEAC-51FA8037605B}" type="datetime">
              <a:rPr b="0" lang="en-US" sz="1400" spc="-1" strike="noStrike">
                <a:solidFill>
                  <a:srgbClr val="0016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6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6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6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9A8E-E980-419F-99B7-D3FEFC386AB2}" type="slidenum">
              <a:rPr b="0" lang="en-US" sz="1400" spc="-1" strike="noStrike">
                <a:solidFill>
                  <a:srgbClr val="001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75C5-2E29-45B5-95B2-EBA371120F60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Times New Roman"/>
              </a:rPr>
              <a:t>Tools of a Scientis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0"/>
          <p:cNvSpPr/>
          <p:nvPr/>
        </p:nvSpPr>
        <p:spPr>
          <a:xfrm>
            <a:off x="380880" y="3505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533520" y="3987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mg = ____1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L = ____1000___ mL     160 cm = ___1600____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km = __14000_____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9 g = ___0.109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 m = __0.250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1"/>
          <p:cNvGrpSpPr/>
          <p:nvPr/>
        </p:nvGrpSpPr>
        <p:grpSpPr>
          <a:xfrm>
            <a:off x="380880" y="5332320"/>
            <a:ext cx="8305920" cy="930240"/>
            <a:chOff x="380880" y="5332320"/>
            <a:chExt cx="8305920" cy="930240"/>
          </a:xfrm>
        </p:grpSpPr>
        <p:grpSp>
          <p:nvGrpSpPr>
            <p:cNvPr id="233" name="Group 16"/>
            <p:cNvGrpSpPr/>
            <p:nvPr/>
          </p:nvGrpSpPr>
          <p:grpSpPr>
            <a:xfrm>
              <a:off x="380880" y="5332320"/>
              <a:ext cx="8305920" cy="916920"/>
              <a:chOff x="380880" y="5332320"/>
              <a:chExt cx="8305920" cy="916920"/>
            </a:xfrm>
          </p:grpSpPr>
          <p:sp>
            <p:nvSpPr>
              <p:cNvPr id="234" name="Text Box 17"/>
              <p:cNvSpPr/>
              <p:nvPr/>
            </p:nvSpPr>
            <p:spPr>
              <a:xfrm>
                <a:off x="380880" y="5332320"/>
                <a:ext cx="8305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are using &lt;, &gt;, or =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6 cm    &lt;     6 m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 g      &gt;    698 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18"/>
              <p:cNvSpPr/>
              <p:nvPr/>
            </p:nvSpPr>
            <p:spPr>
              <a:xfrm>
                <a:off x="2019240" y="58658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Oval 19"/>
            <p:cNvSpPr/>
            <p:nvPr/>
          </p:nvSpPr>
          <p:spPr>
            <a:xfrm>
              <a:off x="5435640" y="5881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20" descr=""/>
          <p:cNvPicPr/>
          <p:nvPr/>
        </p:nvPicPr>
        <p:blipFill>
          <a:blip r:embed="rId1"/>
          <a:srcRect l="13194" t="35188" r="10418" b="23148"/>
          <a:stretch/>
        </p:blipFill>
        <p:spPr>
          <a:xfrm>
            <a:off x="1066680" y="762120"/>
            <a:ext cx="7239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457200" y="99072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 the correct abbreviation for each metric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Kilo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Milli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) Kilo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) Milli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) Centi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) 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) Milligram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,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) 2000 mg = __2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) 5 L = ____5000___ m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) 16 cm = __160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) 104 km = __104000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) 198 g = ___0.198____ kg 21) 2500 m = ____2.5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) 480 cm = __4.8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) 75 mL = _____ 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) 65 g = _____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) 5.6 kg = 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) 50 cm = 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) 6.3 cm = _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) 8 m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) 5.6 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) 120 mg = _____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Conversion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1"/>
          <p:cNvGrpSpPr/>
          <p:nvPr/>
        </p:nvGrpSpPr>
        <p:grpSpPr>
          <a:xfrm>
            <a:off x="457200" y="380880"/>
            <a:ext cx="8305920" cy="1739880"/>
            <a:chOff x="457200" y="380880"/>
            <a:chExt cx="8305920" cy="1739880"/>
          </a:xfrm>
        </p:grpSpPr>
        <p:sp>
          <p:nvSpPr>
            <p:cNvPr id="243" name="Text Box 3"/>
            <p:cNvSpPr/>
            <p:nvPr/>
          </p:nvSpPr>
          <p:spPr>
            <a:xfrm>
              <a:off x="457200" y="380880"/>
              <a:ext cx="8305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are using &lt;, &gt;, or =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) 63 cm         6 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7) 5 g         508 m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9) 1,500 mL         1.5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) 536 cm          53.6 d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8) 43 mg         5 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) 3.6 m         36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5"/>
            <p:cNvSpPr/>
            <p:nvPr/>
          </p:nvSpPr>
          <p:spPr>
            <a:xfrm>
              <a:off x="156204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6"/>
            <p:cNvSpPr/>
            <p:nvPr/>
          </p:nvSpPr>
          <p:spPr>
            <a:xfrm>
              <a:off x="4051440" y="97776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7"/>
            <p:cNvSpPr/>
            <p:nvPr/>
          </p:nvSpPr>
          <p:spPr>
            <a:xfrm>
              <a:off x="740412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"/>
            <p:cNvSpPr/>
            <p:nvPr/>
          </p:nvSpPr>
          <p:spPr>
            <a:xfrm>
              <a:off x="1714680" y="17906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9"/>
            <p:cNvSpPr/>
            <p:nvPr/>
          </p:nvSpPr>
          <p:spPr>
            <a:xfrm>
              <a:off x="431784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0"/>
            <p:cNvSpPr/>
            <p:nvPr/>
          </p:nvSpPr>
          <p:spPr>
            <a:xfrm>
              <a:off x="792468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Box 12"/>
          <p:cNvSpPr/>
          <p:nvPr/>
        </p:nvSpPr>
        <p:spPr>
          <a:xfrm>
            <a:off x="1371600" y="60199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http://sciencespot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0963-DF2B-43EC-93CD-BC623C2860C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1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600"/>
                </a:solidFill>
                <a:latin typeface="Times New Roman"/>
              </a:rPr>
              <a:t>To identify different tools used in science.</a:t>
            </a:r>
            <a:endParaRPr b="0" lang="en-US" sz="3600" spc="-1" strike="noStrike">
              <a:solidFill>
                <a:srgbClr val="0016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1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600"/>
                </a:solidFill>
                <a:latin typeface="Times New Roman"/>
              </a:rPr>
              <a:t>To determine the appropriate units to use for particular measurements.</a:t>
            </a:r>
            <a:endParaRPr b="0" lang="en-US" sz="3600" spc="-1" strike="noStrike">
              <a:solidFill>
                <a:srgbClr val="0016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1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600"/>
                </a:solidFill>
                <a:latin typeface="Times New Roman"/>
              </a:rPr>
              <a:t>To convert from one metric unit to another.</a:t>
            </a:r>
            <a:endParaRPr b="0" lang="en-US" sz="3600" spc="-1" strike="noStrike">
              <a:solidFill>
                <a:srgbClr val="001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Would you use a hammer to tighter a bolt on a bicycle?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Why not?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1600"/>
                </a:solidFill>
                <a:latin typeface="Times New Roman"/>
              </a:rPr>
              <a:t>tool </a:t>
            </a: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is anything that helps you do a task (BUT tools designed to perform specific tasks work better than a substitute)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2610-DB8D-449C-8A65-5D38DBD0C2B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4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5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8337-D6CD-4480-A392-78C925D4847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2"/>
          <a:stretch/>
        </p:blipFill>
        <p:spPr>
          <a:xfrm>
            <a:off x="76320" y="1282680"/>
            <a:ext cx="89913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national System of Un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cientists use a common language and system of measuring.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This system is called the </a:t>
            </a:r>
            <a:r>
              <a:rPr b="0" i="1" lang="en-US" sz="3200" spc="-1" strike="noStrike">
                <a:solidFill>
                  <a:srgbClr val="001600"/>
                </a:solidFill>
                <a:latin typeface="Times New Roman"/>
              </a:rPr>
              <a:t>International System of Units </a:t>
            </a: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or SI. (We sometimes call this the metric system)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By having a common language scientists can easily compare their data.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E8D6-4809-4A1A-A511-EAACC646BCF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38480" y="533160"/>
            <a:ext cx="5105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other advantage of SI units is that all units are based on the number 10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28600" y="4267080"/>
            <a:ext cx="5029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akes it very easy to convert from one unit to an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4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E91E-A336-49A2-A54C-5E3ADD00CDE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228600" y="692280"/>
            <a:ext cx="86868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1901880" y="285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6" descr=""/>
          <p:cNvPicPr/>
          <p:nvPr/>
        </p:nvPicPr>
        <p:blipFill>
          <a:blip r:embed="rId1"/>
          <a:srcRect l="12616" t="37966" r="11691" b="18519"/>
          <a:stretch/>
        </p:blipFill>
        <p:spPr>
          <a:xfrm>
            <a:off x="457200" y="685800"/>
            <a:ext cx="8305920" cy="3581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7"/>
          <p:cNvSpPr/>
          <p:nvPr/>
        </p:nvSpPr>
        <p:spPr>
          <a:xfrm>
            <a:off x="800280" y="9907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L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8"/>
          <p:cNvSpPr/>
          <p:nvPr/>
        </p:nvSpPr>
        <p:spPr>
          <a:xfrm>
            <a:off x="1765440" y="12938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C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32120" y="15238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K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0"/>
          <p:cNvSpPr/>
          <p:nvPr/>
        </p:nvSpPr>
        <p:spPr>
          <a:xfrm>
            <a:off x="4965840" y="22845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6032520" y="2589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7074000" y="28954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LL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57"/>
          <p:cNvGrpSpPr/>
          <p:nvPr/>
        </p:nvGrpSpPr>
        <p:grpSpPr>
          <a:xfrm>
            <a:off x="4025880" y="2603160"/>
            <a:ext cx="914400" cy="1374120"/>
            <a:chOff x="4025880" y="2603160"/>
            <a:chExt cx="914400" cy="1374120"/>
          </a:xfrm>
        </p:grpSpPr>
        <p:sp>
          <p:nvSpPr>
            <p:cNvPr id="180" name="Text Box 53"/>
            <p:cNvSpPr/>
            <p:nvPr/>
          </p:nvSpPr>
          <p:spPr>
            <a:xfrm>
              <a:off x="4025880" y="3060360"/>
              <a:ext cx="91440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56"/>
            <p:cNvSpPr/>
            <p:nvPr/>
          </p:nvSpPr>
          <p:spPr>
            <a:xfrm flipV="1">
              <a:off x="4483080" y="260316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s Using the Ladde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65"/>
          <p:cNvGrpSpPr/>
          <p:nvPr/>
        </p:nvGrpSpPr>
        <p:grpSpPr>
          <a:xfrm>
            <a:off x="380880" y="4343400"/>
            <a:ext cx="4622760" cy="2382840"/>
            <a:chOff x="380880" y="4343400"/>
            <a:chExt cx="4622760" cy="2382840"/>
          </a:xfrm>
        </p:grpSpPr>
        <p:sp>
          <p:nvSpPr>
            <p:cNvPr id="184" name="Text Box 54"/>
            <p:cNvSpPr/>
            <p:nvPr/>
          </p:nvSpPr>
          <p:spPr>
            <a:xfrm>
              <a:off x="380880" y="4343400"/>
              <a:ext cx="45720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w do you use the “ladder” method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62"/>
            <p:cNvSpPr/>
            <p:nvPr/>
          </p:nvSpPr>
          <p:spPr>
            <a:xfrm>
              <a:off x="431640" y="4700520"/>
              <a:ext cx="457200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Determine your start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Count the “jumps” to your end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Move the decimal the same number of jumps in the same direc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63"/>
          <p:cNvSpPr/>
          <p:nvPr/>
        </p:nvSpPr>
        <p:spPr>
          <a:xfrm>
            <a:off x="5600880" y="4343400"/>
            <a:ext cx="2895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km = _________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73"/>
          <p:cNvGrpSpPr/>
          <p:nvPr/>
        </p:nvGrpSpPr>
        <p:grpSpPr>
          <a:xfrm>
            <a:off x="1308240" y="380880"/>
            <a:ext cx="1092240" cy="838440"/>
            <a:chOff x="1308240" y="380880"/>
            <a:chExt cx="1092240" cy="838440"/>
          </a:xfrm>
        </p:grpSpPr>
        <p:sp>
          <p:nvSpPr>
            <p:cNvPr id="188" name="Freeform 67"/>
            <p:cNvSpPr/>
            <p:nvPr/>
          </p:nvSpPr>
          <p:spPr>
            <a:xfrm>
              <a:off x="1308240" y="55872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70"/>
            <p:cNvSpPr/>
            <p:nvPr/>
          </p:nvSpPr>
          <p:spPr>
            <a:xfrm>
              <a:off x="1384200" y="380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74"/>
          <p:cNvGrpSpPr/>
          <p:nvPr/>
        </p:nvGrpSpPr>
        <p:grpSpPr>
          <a:xfrm>
            <a:off x="2374920" y="685800"/>
            <a:ext cx="1092240" cy="812880"/>
            <a:chOff x="2374920" y="685800"/>
            <a:chExt cx="1092240" cy="812880"/>
          </a:xfrm>
        </p:grpSpPr>
        <p:sp>
          <p:nvSpPr>
            <p:cNvPr id="191" name="Freeform 68"/>
            <p:cNvSpPr/>
            <p:nvPr/>
          </p:nvSpPr>
          <p:spPr>
            <a:xfrm>
              <a:off x="2374920" y="83808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71"/>
            <p:cNvSpPr/>
            <p:nvPr/>
          </p:nvSpPr>
          <p:spPr>
            <a:xfrm>
              <a:off x="2374920" y="685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75"/>
          <p:cNvGrpSpPr/>
          <p:nvPr/>
        </p:nvGrpSpPr>
        <p:grpSpPr>
          <a:xfrm>
            <a:off x="3441600" y="914400"/>
            <a:ext cx="1092240" cy="863640"/>
            <a:chOff x="3441600" y="914400"/>
            <a:chExt cx="1092240" cy="863640"/>
          </a:xfrm>
        </p:grpSpPr>
        <p:sp>
          <p:nvSpPr>
            <p:cNvPr id="194" name="Freeform 69"/>
            <p:cNvSpPr/>
            <p:nvPr/>
          </p:nvSpPr>
          <p:spPr>
            <a:xfrm>
              <a:off x="3441600" y="111744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2"/>
            <p:cNvSpPr/>
            <p:nvPr/>
          </p:nvSpPr>
          <p:spPr>
            <a:xfrm>
              <a:off x="3517920" y="9144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76"/>
          <p:cNvSpPr/>
          <p:nvPr/>
        </p:nvSpPr>
        <p:spPr>
          <a:xfrm>
            <a:off x="5486400" y="53481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many jumps does it t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80"/>
          <p:cNvGrpSpPr/>
          <p:nvPr/>
        </p:nvGrpSpPr>
        <p:grpSpPr>
          <a:xfrm>
            <a:off x="5562720" y="4660560"/>
            <a:ext cx="1523880" cy="508320"/>
            <a:chOff x="5562720" y="4660560"/>
            <a:chExt cx="1523880" cy="508320"/>
          </a:xfrm>
        </p:grpSpPr>
        <p:sp>
          <p:nvSpPr>
            <p:cNvPr id="198" name="Text Box 64"/>
            <p:cNvSpPr/>
            <p:nvPr/>
          </p:nvSpPr>
          <p:spPr>
            <a:xfrm>
              <a:off x="55627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rt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7"/>
            <p:cNvSpPr/>
            <p:nvPr/>
          </p:nvSpPr>
          <p:spPr>
            <a:xfrm flipV="1">
              <a:off x="6337440" y="46605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81"/>
          <p:cNvGrpSpPr/>
          <p:nvPr/>
        </p:nvGrpSpPr>
        <p:grpSpPr>
          <a:xfrm>
            <a:off x="7162920" y="4647960"/>
            <a:ext cx="1523880" cy="520920"/>
            <a:chOff x="7162920" y="4647960"/>
            <a:chExt cx="1523880" cy="520920"/>
          </a:xfrm>
        </p:grpSpPr>
        <p:sp>
          <p:nvSpPr>
            <p:cNvPr id="201" name="Line 78"/>
            <p:cNvSpPr/>
            <p:nvPr/>
          </p:nvSpPr>
          <p:spPr>
            <a:xfrm flipV="1">
              <a:off x="7924680" y="4647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79"/>
            <p:cNvSpPr/>
            <p:nvPr/>
          </p:nvSpPr>
          <p:spPr>
            <a:xfrm>
              <a:off x="71629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d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83"/>
          <p:cNvSpPr/>
          <p:nvPr/>
        </p:nvSpPr>
        <p:spPr>
          <a:xfrm>
            <a:off x="5410080" y="6006960"/>
            <a:ext cx="4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04"/>
          <p:cNvGrpSpPr/>
          <p:nvPr/>
        </p:nvGrpSpPr>
        <p:grpSpPr>
          <a:xfrm>
            <a:off x="5499000" y="5969160"/>
            <a:ext cx="889200" cy="888840"/>
            <a:chOff x="5499000" y="5969160"/>
            <a:chExt cx="889200" cy="888840"/>
          </a:xfrm>
        </p:grpSpPr>
        <p:grpSp>
          <p:nvGrpSpPr>
            <p:cNvPr id="205" name="Group 89"/>
            <p:cNvGrpSpPr/>
            <p:nvPr/>
          </p:nvGrpSpPr>
          <p:grpSpPr>
            <a:xfrm>
              <a:off x="5499000" y="6357960"/>
              <a:ext cx="737640" cy="500040"/>
              <a:chOff x="5499000" y="6357960"/>
              <a:chExt cx="737640" cy="500040"/>
            </a:xfrm>
          </p:grpSpPr>
          <p:sp>
            <p:nvSpPr>
              <p:cNvPr id="206" name="Freeform 85"/>
              <p:cNvSpPr/>
              <p:nvPr/>
            </p:nvSpPr>
            <p:spPr>
              <a:xfrm flipV="1" rot="1472400">
                <a:off x="5823000" y="6417360"/>
                <a:ext cx="361440" cy="33012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86"/>
              <p:cNvSpPr/>
              <p:nvPr/>
            </p:nvSpPr>
            <p:spPr>
              <a:xfrm>
                <a:off x="5499000" y="648972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Text Box 100"/>
            <p:cNvSpPr/>
            <p:nvPr/>
          </p:nvSpPr>
          <p:spPr>
            <a:xfrm>
              <a:off x="58546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05"/>
          <p:cNvGrpSpPr/>
          <p:nvPr/>
        </p:nvGrpSpPr>
        <p:grpSpPr>
          <a:xfrm>
            <a:off x="6039000" y="5969160"/>
            <a:ext cx="819000" cy="883440"/>
            <a:chOff x="6039000" y="5969160"/>
            <a:chExt cx="819000" cy="883440"/>
          </a:xfrm>
        </p:grpSpPr>
        <p:grpSp>
          <p:nvGrpSpPr>
            <p:cNvPr id="210" name="Group 91"/>
            <p:cNvGrpSpPr/>
            <p:nvPr/>
          </p:nvGrpSpPr>
          <p:grpSpPr>
            <a:xfrm>
              <a:off x="6039000" y="6364440"/>
              <a:ext cx="632520" cy="488160"/>
              <a:chOff x="6039000" y="6364440"/>
              <a:chExt cx="632520" cy="488160"/>
            </a:xfrm>
          </p:grpSpPr>
          <p:sp>
            <p:nvSpPr>
              <p:cNvPr id="211" name="Freeform 87"/>
              <p:cNvSpPr/>
              <p:nvPr/>
            </p:nvSpPr>
            <p:spPr>
              <a:xfrm flipV="1" rot="1472400">
                <a:off x="6311880" y="6412320"/>
                <a:ext cx="304920" cy="32976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88"/>
              <p:cNvSpPr/>
              <p:nvPr/>
            </p:nvSpPr>
            <p:spPr>
              <a:xfrm>
                <a:off x="6039000" y="6484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Text Box 101"/>
            <p:cNvSpPr/>
            <p:nvPr/>
          </p:nvSpPr>
          <p:spPr>
            <a:xfrm>
              <a:off x="63244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106"/>
          <p:cNvGrpSpPr/>
          <p:nvPr/>
        </p:nvGrpSpPr>
        <p:grpSpPr>
          <a:xfrm>
            <a:off x="6413400" y="5969160"/>
            <a:ext cx="889200" cy="890280"/>
            <a:chOff x="6413400" y="5969160"/>
            <a:chExt cx="889200" cy="890280"/>
          </a:xfrm>
        </p:grpSpPr>
        <p:grpSp>
          <p:nvGrpSpPr>
            <p:cNvPr id="215" name="Group 92"/>
            <p:cNvGrpSpPr/>
            <p:nvPr/>
          </p:nvGrpSpPr>
          <p:grpSpPr>
            <a:xfrm>
              <a:off x="6413400" y="6359400"/>
              <a:ext cx="737640" cy="500040"/>
              <a:chOff x="6413400" y="6359400"/>
              <a:chExt cx="737640" cy="500040"/>
            </a:xfrm>
          </p:grpSpPr>
          <p:sp>
            <p:nvSpPr>
              <p:cNvPr id="216" name="Freeform 93"/>
              <p:cNvSpPr/>
              <p:nvPr/>
            </p:nvSpPr>
            <p:spPr>
              <a:xfrm flipV="1" rot="1472400">
                <a:off x="6736680" y="6419160"/>
                <a:ext cx="361800" cy="33012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94"/>
              <p:cNvSpPr/>
              <p:nvPr/>
            </p:nvSpPr>
            <p:spPr>
              <a:xfrm>
                <a:off x="6413400" y="649116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Text Box 102"/>
            <p:cNvSpPr/>
            <p:nvPr/>
          </p:nvSpPr>
          <p:spPr>
            <a:xfrm>
              <a:off x="67690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03"/>
          <p:cNvSpPr/>
          <p:nvPr/>
        </p:nvSpPr>
        <p:spPr>
          <a:xfrm>
            <a:off x="7086600" y="6006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00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0"/>
          <p:cNvSpPr/>
          <p:nvPr/>
        </p:nvSpPr>
        <p:spPr>
          <a:xfrm>
            <a:off x="380880" y="3505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33520" y="3987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mg = __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L = ______ mL          160 cm = ______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km = _______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9 g = __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 m = _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1"/>
          <p:cNvGrpSpPr/>
          <p:nvPr/>
        </p:nvGrpSpPr>
        <p:grpSpPr>
          <a:xfrm>
            <a:off x="380880" y="5332320"/>
            <a:ext cx="8305920" cy="930240"/>
            <a:chOff x="380880" y="5332320"/>
            <a:chExt cx="8305920" cy="930240"/>
          </a:xfrm>
        </p:grpSpPr>
        <p:grpSp>
          <p:nvGrpSpPr>
            <p:cNvPr id="224" name="Group 16"/>
            <p:cNvGrpSpPr/>
            <p:nvPr/>
          </p:nvGrpSpPr>
          <p:grpSpPr>
            <a:xfrm>
              <a:off x="380880" y="5332320"/>
              <a:ext cx="8305920" cy="916920"/>
              <a:chOff x="380880" y="5332320"/>
              <a:chExt cx="8305920" cy="916920"/>
            </a:xfrm>
          </p:grpSpPr>
          <p:sp>
            <p:nvSpPr>
              <p:cNvPr id="225" name="Text Box 17"/>
              <p:cNvSpPr/>
              <p:nvPr/>
            </p:nvSpPr>
            <p:spPr>
              <a:xfrm>
                <a:off x="380880" y="5332320"/>
                <a:ext cx="8305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are using &lt;, &gt;, or =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6 cm         6 m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 g          698 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18"/>
              <p:cNvSpPr/>
              <p:nvPr/>
            </p:nvSpPr>
            <p:spPr>
              <a:xfrm>
                <a:off x="2019240" y="58658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Oval 19"/>
            <p:cNvSpPr/>
            <p:nvPr/>
          </p:nvSpPr>
          <p:spPr>
            <a:xfrm>
              <a:off x="5435640" y="5881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Picture 20" descr=""/>
          <p:cNvPicPr/>
          <p:nvPr/>
        </p:nvPicPr>
        <p:blipFill>
          <a:blip r:embed="rId1"/>
          <a:srcRect l="13194" t="35188" r="10418" b="23148"/>
          <a:stretch/>
        </p:blipFill>
        <p:spPr>
          <a:xfrm>
            <a:off x="1066680" y="762120"/>
            <a:ext cx="7239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4:17:31Z</dcterms:created>
  <dc:creator>Tracy Trimpe</dc:creator>
  <dc:description/>
  <dc:language>en-US</dc:language>
  <cp:lastModifiedBy>Teacher</cp:lastModifiedBy>
  <dcterms:modified xsi:type="dcterms:W3CDTF">2010-08-23T09:10:37Z</dcterms:modified>
  <cp:revision>32</cp:revision>
  <dc:subject/>
  <dc:title>Slide 1</dc:title>
</cp:coreProperties>
</file>