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camera.wav" ContentType="audio/x-wav"/>
  <Override PartName="/ppt/media/image6.png" ContentType="image/png"/>
  <Override PartName="/ppt/media/image1.jpeg" ContentType="image/jpeg"/>
  <Override PartName="/ppt/media/image5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610-4705-4173-A473-E06E6442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98F-69BF-45B3-A96C-FFB3E016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9AC0-C2F7-44EF-B4A2-8D1B5543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D0E-5478-45C0-AC33-1D02AE7A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C24A-A123-477F-AEBA-882460B5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D520-4ED7-4304-8BE9-2C88BF59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A63F-9F0B-4E68-B7D8-454D67F2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EBA5-9DDD-40E6-B826-D7E5C776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9714-0396-4A5C-88AE-58E49CA9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F6E1-7D49-4F28-AB24-DE8B05F7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9D03-25EB-443B-A444-246F04AE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0F7-6B43-448E-940D-C835F17B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1FA9-75BF-44EC-8260-3EA295CA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005C-6CD2-49B8-BB69-1103836C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3295-6786-4568-BFC6-7CA71A8F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2494-52C0-4A0D-A80F-276A5815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71E2-2C1A-4C77-99BE-3A513E49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E0565-74C7-4820-87DA-69FF41BA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345EA-67F2-4698-8BE7-BA8015A4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0BF5-BD7C-4C0C-8608-FF5AD0C6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B2B9D-81ED-4128-80B7-C416910D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5F299-7B86-43F7-B737-A466FF33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F01-5908-4B63-A379-BB7737CD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FE639-F1E4-425F-92E8-D6537CFE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3B5AF-7D77-4CE3-84CB-04524507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A579B-DF7D-4DF9-931D-AB9B3711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D22FC-98AB-4269-A3D7-68D19527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E802-F2FD-4A79-91AE-D7652B18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887E2-17EC-4270-B521-4EA5C2DB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71D98-4063-400D-90EA-2179B738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AB0-BB5C-4BE0-A38E-053D5971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66D5-5897-438E-BF01-5ACB5D84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EC9-0859-4050-BC74-7B0AC177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5D7-7C80-47F5-AC06-FC791B73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E1C-2977-4478-AE97-D35E5F94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6E4-9EA1-4D2F-A3B6-799C0E36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0868-0E5D-4A53-ADDE-B9301456F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cc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0066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793D-02DB-48D4-82D3-C36965B7BA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1722-9C47-436B-AB21-145D74E7E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9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cc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0066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0F1D-F178-4B70-BA35-B503C5C31912}" type="datetime"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F22A-10DE-4F93-B58E-AE0AB9D7E6A4}" type="slidenum"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4B1A-B487-4A32-BAE6-26EF01E687B7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Times New Roman"/>
              </a:rPr>
              <a:t>Tools of a Scienti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1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1000___ mL     160 cm = ___1600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14000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0.109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0.250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233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234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&lt;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&gt;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57200" y="99072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the correct abbreviation for each metric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Kilo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Milli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Kilo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Milli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) Centi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) Milligram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,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) 2000 mg = __2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) 5 L = ____5000___ 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 16 cm = __160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) 104 km = __104000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) 198 g = ___0.198____ kg 21) 2500 m = ____2.5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) 480 cm = __4.8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) 75 mL = _____ 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) 65 g = _____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) 5.6 kg = 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) 5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) 6.3 cm = 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) 8 m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) 5.6 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) 120 mg = _____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Convers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1"/>
          <p:cNvGrpSpPr/>
          <p:nvPr/>
        </p:nvGrpSpPr>
        <p:grpSpPr>
          <a:xfrm>
            <a:off x="457200" y="380880"/>
            <a:ext cx="8305920" cy="1739880"/>
            <a:chOff x="457200" y="380880"/>
            <a:chExt cx="8305920" cy="1739880"/>
          </a:xfrm>
        </p:grpSpPr>
        <p:sp>
          <p:nvSpPr>
            <p:cNvPr id="243" name="Text Box 3"/>
            <p:cNvSpPr/>
            <p:nvPr/>
          </p:nvSpPr>
          <p:spPr>
            <a:xfrm>
              <a:off x="457200" y="380880"/>
              <a:ext cx="8305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are using &lt;, &gt;, or =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) 63 cm         6 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) 5 g         508 m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9) 1,500 mL         1.5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) 536 cm          53.6 d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) 43 mg         5 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) 3.6 m         3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>
              <a:off x="156204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6"/>
            <p:cNvSpPr/>
            <p:nvPr/>
          </p:nvSpPr>
          <p:spPr>
            <a:xfrm>
              <a:off x="4051440" y="9777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>
              <a:off x="740412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1714680" y="17906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43178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792468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12"/>
          <p:cNvSpPr/>
          <p:nvPr/>
        </p:nvSpPr>
        <p:spPr>
          <a:xfrm>
            <a:off x="1371600" y="60199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http://sciencespo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5E0B-903C-42D4-8FBA-786D24114F9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identify different tools used in science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determine the appropriate units to use for particular measurements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convert from one metric unit to another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Would you use a hammer to tighter a bolt on a bicycle?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Why not?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1600"/>
                </a:solidFill>
                <a:latin typeface="Times New Roman"/>
              </a:rPr>
              <a:t>tool </a:t>
            </a: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is anything that helps you do a task (BUT tools designed to perform specific tasks work better than a substitute)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237C-03C0-4DAA-AA89-EC28BD21C5B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4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AAFC-8D02-4819-9924-1A82014ED13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76320" y="1282680"/>
            <a:ext cx="8991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national System of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cientists use a common language and system of measuring.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s system is called the </a:t>
            </a:r>
            <a:r>
              <a:rPr b="0" i="1" lang="en-US" sz="3200" spc="-1" strike="noStrike">
                <a:solidFill>
                  <a:srgbClr val="001600"/>
                </a:solidFill>
                <a:latin typeface="Times New Roman"/>
              </a:rPr>
              <a:t>International System of Units </a:t>
            </a: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or SI. (We sometimes call this the metric system)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By having a common language scientists can easily compare their data.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4786-D4A1-4D7A-813B-66142692159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38480" y="533160"/>
            <a:ext cx="5105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other advantage of SI units is that all units are based on the number 10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28600" y="4267080"/>
            <a:ext cx="502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akes it very easy to convert from one unit to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4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86D2-21FF-4A75-825B-F5756498B9A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228600" y="692280"/>
            <a:ext cx="86868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1901880" y="28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6" descr=""/>
          <p:cNvPicPr/>
          <p:nvPr/>
        </p:nvPicPr>
        <p:blipFill>
          <a:blip r:embed="rId1"/>
          <a:srcRect l="12616" t="37966" r="11691" b="18519"/>
          <a:stretch/>
        </p:blipFill>
        <p:spPr>
          <a:xfrm>
            <a:off x="457200" y="685800"/>
            <a:ext cx="8305920" cy="3581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7"/>
          <p:cNvSpPr/>
          <p:nvPr/>
        </p:nvSpPr>
        <p:spPr>
          <a:xfrm>
            <a:off x="800280" y="990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L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8"/>
          <p:cNvSpPr/>
          <p:nvPr/>
        </p:nvSpPr>
        <p:spPr>
          <a:xfrm>
            <a:off x="1765440" y="12938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C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32120" y="1523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K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4965840" y="22845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6032520" y="2589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707400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LL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57"/>
          <p:cNvGrpSpPr/>
          <p:nvPr/>
        </p:nvGrpSpPr>
        <p:grpSpPr>
          <a:xfrm>
            <a:off x="4025880" y="2603160"/>
            <a:ext cx="914400" cy="1374120"/>
            <a:chOff x="4025880" y="2603160"/>
            <a:chExt cx="914400" cy="1374120"/>
          </a:xfrm>
        </p:grpSpPr>
        <p:sp>
          <p:nvSpPr>
            <p:cNvPr id="180" name="Text Box 53"/>
            <p:cNvSpPr/>
            <p:nvPr/>
          </p:nvSpPr>
          <p:spPr>
            <a:xfrm>
              <a:off x="4025880" y="3060360"/>
              <a:ext cx="9144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56"/>
            <p:cNvSpPr/>
            <p:nvPr/>
          </p:nvSpPr>
          <p:spPr>
            <a:xfrm flipV="1">
              <a:off x="4483080" y="2603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s Using the Ladd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5"/>
          <p:cNvGrpSpPr/>
          <p:nvPr/>
        </p:nvGrpSpPr>
        <p:grpSpPr>
          <a:xfrm>
            <a:off x="380880" y="4343400"/>
            <a:ext cx="4622760" cy="2382840"/>
            <a:chOff x="380880" y="4343400"/>
            <a:chExt cx="4622760" cy="2382840"/>
          </a:xfrm>
        </p:grpSpPr>
        <p:sp>
          <p:nvSpPr>
            <p:cNvPr id="184" name="Text Box 54"/>
            <p:cNvSpPr/>
            <p:nvPr/>
          </p:nvSpPr>
          <p:spPr>
            <a:xfrm>
              <a:off x="380880" y="4343400"/>
              <a:ext cx="4572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w do you use the “ladder” method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62"/>
            <p:cNvSpPr/>
            <p:nvPr/>
          </p:nvSpPr>
          <p:spPr>
            <a:xfrm>
              <a:off x="431640" y="4700520"/>
              <a:ext cx="45720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Determine your start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Count the “jumps” to your end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Move the decimal the same number of jumps in the same dir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63"/>
          <p:cNvSpPr/>
          <p:nvPr/>
        </p:nvSpPr>
        <p:spPr>
          <a:xfrm>
            <a:off x="5600880" y="4343400"/>
            <a:ext cx="2895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km = _________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73"/>
          <p:cNvGrpSpPr/>
          <p:nvPr/>
        </p:nvGrpSpPr>
        <p:grpSpPr>
          <a:xfrm>
            <a:off x="1308240" y="380880"/>
            <a:ext cx="1092240" cy="838440"/>
            <a:chOff x="1308240" y="380880"/>
            <a:chExt cx="1092240" cy="838440"/>
          </a:xfrm>
        </p:grpSpPr>
        <p:sp>
          <p:nvSpPr>
            <p:cNvPr id="188" name="Freeform 67"/>
            <p:cNvSpPr/>
            <p:nvPr/>
          </p:nvSpPr>
          <p:spPr>
            <a:xfrm>
              <a:off x="1308240" y="55872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0"/>
            <p:cNvSpPr/>
            <p:nvPr/>
          </p:nvSpPr>
          <p:spPr>
            <a:xfrm>
              <a:off x="1384200" y="380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74"/>
          <p:cNvGrpSpPr/>
          <p:nvPr/>
        </p:nvGrpSpPr>
        <p:grpSpPr>
          <a:xfrm>
            <a:off x="2374920" y="685800"/>
            <a:ext cx="1092240" cy="812880"/>
            <a:chOff x="2374920" y="685800"/>
            <a:chExt cx="1092240" cy="812880"/>
          </a:xfrm>
        </p:grpSpPr>
        <p:sp>
          <p:nvSpPr>
            <p:cNvPr id="191" name="Freeform 68"/>
            <p:cNvSpPr/>
            <p:nvPr/>
          </p:nvSpPr>
          <p:spPr>
            <a:xfrm>
              <a:off x="2374920" y="83808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71"/>
            <p:cNvSpPr/>
            <p:nvPr/>
          </p:nvSpPr>
          <p:spPr>
            <a:xfrm>
              <a:off x="2374920" y="685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75"/>
          <p:cNvGrpSpPr/>
          <p:nvPr/>
        </p:nvGrpSpPr>
        <p:grpSpPr>
          <a:xfrm>
            <a:off x="3441600" y="914400"/>
            <a:ext cx="1092240" cy="863640"/>
            <a:chOff x="3441600" y="914400"/>
            <a:chExt cx="1092240" cy="863640"/>
          </a:xfrm>
        </p:grpSpPr>
        <p:sp>
          <p:nvSpPr>
            <p:cNvPr id="194" name="Freeform 69"/>
            <p:cNvSpPr/>
            <p:nvPr/>
          </p:nvSpPr>
          <p:spPr>
            <a:xfrm>
              <a:off x="3441600" y="111744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2"/>
            <p:cNvSpPr/>
            <p:nvPr/>
          </p:nvSpPr>
          <p:spPr>
            <a:xfrm>
              <a:off x="3517920" y="914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76"/>
          <p:cNvSpPr/>
          <p:nvPr/>
        </p:nvSpPr>
        <p:spPr>
          <a:xfrm>
            <a:off x="5486400" y="5348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jumps does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80"/>
          <p:cNvGrpSpPr/>
          <p:nvPr/>
        </p:nvGrpSpPr>
        <p:grpSpPr>
          <a:xfrm>
            <a:off x="5562720" y="4660560"/>
            <a:ext cx="1523880" cy="508320"/>
            <a:chOff x="5562720" y="4660560"/>
            <a:chExt cx="1523880" cy="508320"/>
          </a:xfrm>
        </p:grpSpPr>
        <p:sp>
          <p:nvSpPr>
            <p:cNvPr id="198" name="Text Box 64"/>
            <p:cNvSpPr/>
            <p:nvPr/>
          </p:nvSpPr>
          <p:spPr>
            <a:xfrm>
              <a:off x="55627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7"/>
            <p:cNvSpPr/>
            <p:nvPr/>
          </p:nvSpPr>
          <p:spPr>
            <a:xfrm flipV="1">
              <a:off x="6337440" y="46605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81"/>
          <p:cNvGrpSpPr/>
          <p:nvPr/>
        </p:nvGrpSpPr>
        <p:grpSpPr>
          <a:xfrm>
            <a:off x="7162920" y="4647960"/>
            <a:ext cx="1523880" cy="520920"/>
            <a:chOff x="7162920" y="4647960"/>
            <a:chExt cx="1523880" cy="520920"/>
          </a:xfrm>
        </p:grpSpPr>
        <p:sp>
          <p:nvSpPr>
            <p:cNvPr id="201" name="Line 78"/>
            <p:cNvSpPr/>
            <p:nvPr/>
          </p:nvSpPr>
          <p:spPr>
            <a:xfrm flipV="1">
              <a:off x="7924680" y="4647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79"/>
            <p:cNvSpPr/>
            <p:nvPr/>
          </p:nvSpPr>
          <p:spPr>
            <a:xfrm>
              <a:off x="71629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83"/>
          <p:cNvSpPr/>
          <p:nvPr/>
        </p:nvSpPr>
        <p:spPr>
          <a:xfrm>
            <a:off x="5410080" y="6006960"/>
            <a:ext cx="4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04"/>
          <p:cNvGrpSpPr/>
          <p:nvPr/>
        </p:nvGrpSpPr>
        <p:grpSpPr>
          <a:xfrm>
            <a:off x="5499000" y="5969160"/>
            <a:ext cx="889200" cy="888840"/>
            <a:chOff x="5499000" y="5969160"/>
            <a:chExt cx="889200" cy="888840"/>
          </a:xfrm>
        </p:grpSpPr>
        <p:grpSp>
          <p:nvGrpSpPr>
            <p:cNvPr id="205" name="Group 89"/>
            <p:cNvGrpSpPr/>
            <p:nvPr/>
          </p:nvGrpSpPr>
          <p:grpSpPr>
            <a:xfrm>
              <a:off x="5499000" y="6357960"/>
              <a:ext cx="737640" cy="500040"/>
              <a:chOff x="5499000" y="6357960"/>
              <a:chExt cx="737640" cy="500040"/>
            </a:xfrm>
          </p:grpSpPr>
          <p:sp>
            <p:nvSpPr>
              <p:cNvPr id="206" name="Freeform 85"/>
              <p:cNvSpPr/>
              <p:nvPr/>
            </p:nvSpPr>
            <p:spPr>
              <a:xfrm flipV="1" rot="1472400">
                <a:off x="5823000" y="6417360"/>
                <a:ext cx="36144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86"/>
              <p:cNvSpPr/>
              <p:nvPr/>
            </p:nvSpPr>
            <p:spPr>
              <a:xfrm>
                <a:off x="5499000" y="648972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 Box 100"/>
            <p:cNvSpPr/>
            <p:nvPr/>
          </p:nvSpPr>
          <p:spPr>
            <a:xfrm>
              <a:off x="58546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05"/>
          <p:cNvGrpSpPr/>
          <p:nvPr/>
        </p:nvGrpSpPr>
        <p:grpSpPr>
          <a:xfrm>
            <a:off x="6039000" y="5969160"/>
            <a:ext cx="819000" cy="883440"/>
            <a:chOff x="6039000" y="5969160"/>
            <a:chExt cx="819000" cy="883440"/>
          </a:xfrm>
        </p:grpSpPr>
        <p:grpSp>
          <p:nvGrpSpPr>
            <p:cNvPr id="210" name="Group 91"/>
            <p:cNvGrpSpPr/>
            <p:nvPr/>
          </p:nvGrpSpPr>
          <p:grpSpPr>
            <a:xfrm>
              <a:off x="6039000" y="6364440"/>
              <a:ext cx="632520" cy="488160"/>
              <a:chOff x="6039000" y="6364440"/>
              <a:chExt cx="632520" cy="488160"/>
            </a:xfrm>
          </p:grpSpPr>
          <p:sp>
            <p:nvSpPr>
              <p:cNvPr id="211" name="Freeform 87"/>
              <p:cNvSpPr/>
              <p:nvPr/>
            </p:nvSpPr>
            <p:spPr>
              <a:xfrm flipV="1" rot="1472400">
                <a:off x="6311880" y="6412320"/>
                <a:ext cx="304920" cy="32976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88"/>
              <p:cNvSpPr/>
              <p:nvPr/>
            </p:nvSpPr>
            <p:spPr>
              <a:xfrm>
                <a:off x="6039000" y="6484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Text Box 101"/>
            <p:cNvSpPr/>
            <p:nvPr/>
          </p:nvSpPr>
          <p:spPr>
            <a:xfrm>
              <a:off x="63244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06"/>
          <p:cNvGrpSpPr/>
          <p:nvPr/>
        </p:nvGrpSpPr>
        <p:grpSpPr>
          <a:xfrm>
            <a:off x="6413400" y="5969160"/>
            <a:ext cx="889200" cy="890280"/>
            <a:chOff x="6413400" y="5969160"/>
            <a:chExt cx="889200" cy="890280"/>
          </a:xfrm>
        </p:grpSpPr>
        <p:grpSp>
          <p:nvGrpSpPr>
            <p:cNvPr id="215" name="Group 92"/>
            <p:cNvGrpSpPr/>
            <p:nvPr/>
          </p:nvGrpSpPr>
          <p:grpSpPr>
            <a:xfrm>
              <a:off x="6413400" y="6359400"/>
              <a:ext cx="737640" cy="500040"/>
              <a:chOff x="6413400" y="6359400"/>
              <a:chExt cx="737640" cy="500040"/>
            </a:xfrm>
          </p:grpSpPr>
          <p:sp>
            <p:nvSpPr>
              <p:cNvPr id="216" name="Freeform 93"/>
              <p:cNvSpPr/>
              <p:nvPr/>
            </p:nvSpPr>
            <p:spPr>
              <a:xfrm flipV="1" rot="1472400">
                <a:off x="6736680" y="6419160"/>
                <a:ext cx="36180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94"/>
              <p:cNvSpPr/>
              <p:nvPr/>
            </p:nvSpPr>
            <p:spPr>
              <a:xfrm>
                <a:off x="6413400" y="649116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 Box 102"/>
            <p:cNvSpPr/>
            <p:nvPr/>
          </p:nvSpPr>
          <p:spPr>
            <a:xfrm>
              <a:off x="67690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03"/>
          <p:cNvSpPr/>
          <p:nvPr/>
        </p:nvSpPr>
        <p:spPr>
          <a:xfrm>
            <a:off x="7086600" y="6006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0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__ mL          160 cm = __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224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225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4:17:31Z</dcterms:created>
  <dc:creator>Tracy Trimpe</dc:creator>
  <dc:description/>
  <dc:language>en-US</dc:language>
  <cp:lastModifiedBy>Teacher</cp:lastModifiedBy>
  <dcterms:modified xsi:type="dcterms:W3CDTF">2010-08-23T09:10:37Z</dcterms:modified>
  <cp:revision>32</cp:revision>
  <dc:subject/>
  <dc:title>Slide 1</dc:title>
</cp:coreProperties>
</file>