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30A3-D33C-44F8-AFFD-850412A7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4CFC-6673-42CD-B754-66178305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09C2B-7BC5-4D0A-A2F3-16774734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84D8D-8B20-4CEB-8F4F-08A93AB2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D7069-3220-421D-B588-01527F25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88CA8-809D-48BB-AAA4-0AD99E3C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5D7E7-7D5B-4458-B7D0-6D7D70AE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D7C66-5A1E-4811-9A66-C2FD33EE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289DA-6F49-4B69-81E0-D1C31D8D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D2355-B5C4-46A9-8056-0C5A76A4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804DD-CCEF-43F4-8A0A-E8F57D1F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1289D-90D3-4949-A8EA-D2080E20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1931-FAB9-431E-8769-87314776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0C812-05AE-4F4D-889B-D1EEE2AF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33E55-0A3D-4255-B26F-60463F40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4DF81-53FD-4822-B0F2-DBFF692F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0840A-FD2C-45B7-9A35-BB7CEE76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15074-E924-4CE6-A640-23AA79FF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FBEA5-CF76-4545-9E9B-7CE7CEF8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E6ACD-FEEF-43B0-AA2E-BB1C6A46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4DD2D-BF81-4062-A1E4-80194518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E24A0-C500-4098-9AC5-B8471E23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B43A1-0241-4ECA-B42B-33258A6E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D672-CB1A-40BB-8C0B-49563059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A29E9-FBA0-4902-BFB7-FB7BFFFE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40A4F-2094-4B6A-8514-E4BA3D68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EEAA6-179D-4E02-A9A6-CCBA8759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91D5F-0762-4770-987E-0BA7D63F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23B64-BA93-44F5-834B-6DFDB6CD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A0E40-DC22-4218-AADB-3A5B9640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E5BF9-59BF-46C4-8D20-FD71FD08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07F4E-FAA6-47D8-A29A-58F3C988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7CB0E-7556-4149-86D4-A38D2A31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8B393-C4DC-4F66-BD7D-5E105489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9495-CD66-4EF2-8EF1-6E186A89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149D4-3D9B-4EC8-BFDF-74F6116B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4C05B-E4AC-4429-BA91-8D44D3FD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25010-107D-40D1-9CB7-9E567CE2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396F2-CF78-4C36-895B-CF238242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55433-CC11-4691-BD1A-B1FAFCDB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7D764-F5DB-4D50-847A-7661B055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12F7D-BD41-46C4-8703-DDF091F6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F89E8-6CF3-4231-9E37-A198D493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175F7-C2A5-4921-BDD9-7BE3FF5E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7C267-4949-4033-A0A8-013C0ECD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FDA3-626D-4637-A3F3-7394DE67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5EB65-39CA-4F6B-B9FA-BDBC2B9A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67EF1-D7F0-4E4C-A0A3-57F24ED0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78615-3041-4A5C-A014-6D79CD50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6426A-18D6-489B-8EFA-3CBEA120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91418-6F0F-4DF5-8E15-9BBAA11D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4F49E8-8042-42EF-86FE-13D4156C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50682F-890B-40B7-B3B8-23492C01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BA4AAF-B1E0-41DD-BC3F-5E6C5D04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6C9EB-B8E4-4D37-AE25-B85683B7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4EAE27-9321-4317-93B2-849190F1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E238-1B5F-49C8-B596-4A36347C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B94FE7-697B-4D0D-8012-9FA32B32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C4934E-0A31-4AB9-9B43-62D6DB6F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572A5-6F54-4CB5-BDB2-E1D552BF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D89556-6573-48FA-8841-EC3A36D5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60C2D-7318-43FE-BE52-0DDB1347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C0216-AE2B-4EEA-99C6-EAF1ED70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B815BA-8F08-4B31-A88B-2D93669E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BA6E-CBEE-4E7D-A51D-5D9B480A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FA01-E43D-45A9-B02C-551A8907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1769-B051-4BD1-A689-A204E6B5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9782-3FE2-4A9A-8950-E51FF80A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C2A8-C2AE-4E9D-B0C6-CECA9AA3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3829-4AE3-43D5-8CA8-35D52557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7521-56A5-4FE8-845A-6FE942FE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2938-90E4-4B8D-B84C-78377151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13E1-AA71-4D1F-8FC6-C5B00CDA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597D-1513-4B2B-BB71-738EBEA6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B84AD-3396-478E-B9A3-2CBFC59C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D7F06-F71B-48E7-A80C-3F69DB0D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A3FE3-A5A9-4BA1-B16B-974D9BF2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9577F-ECDA-4AC2-AEE4-A2FDC182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53F61-A853-45C5-80E3-D37B9F0D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AF8-AD4C-49A3-A6C7-C7B8F8B5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19D9C-ACFA-4EBB-9487-E43B9357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3B11D-79AF-4465-BA9D-DBD588A7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F43A9-7BFF-4959-8362-D398C14A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AF989-1762-4AAA-8D86-16F65D62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961A9-F570-444C-B3C5-A0B7B3EB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58B65-8268-4919-BBF4-C2C4E838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F671C-F953-436C-BAB7-F49F89F0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9DDAD-C5CF-4E9C-A68F-C0267762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5229E-0810-411D-9534-0F3C25CF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27E5C-E5CE-498A-92C6-0F70E127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B29-F446-4370-B8D5-9A278E1B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1C82B-3BDD-4ECD-A8D3-F23D5670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4A3FC-7D87-4856-9E9D-51C4F26E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96ED6-964D-40E4-9E0E-49463BAC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30BB8-1B28-496B-B783-EEC71A84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9307E-5A51-4511-B2A3-63FC6220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7E707-89CC-4884-92C4-C96071CB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7B925-AFD9-4278-95B1-2BC5510F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64607-2AC2-4BDF-B79A-8929949F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6B4A6-7CDF-4FE2-8086-1DE89B36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74DE8-C94B-4747-A9C5-FB2E9801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89E-F4AD-4964-8DF3-5167B548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8FD7E-3EE9-4E79-BDC9-B1EE02E9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6E261-A8D0-473F-A7AB-23702DE5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46A2F-9BF5-459E-A5E2-7500DB31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BE408-EC47-44CF-BF45-A36997F2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06EF9-1EA4-471C-A078-A7681776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B1419-C8C1-4F14-BDEF-38B50547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890B4-4D42-4E8B-BC0F-7077D02D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BE173-57BE-4E87-ADA5-2B04AF37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D035F-A570-4E92-B730-07279E2E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A3DB2-F8FA-475E-96E7-077F3C6A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5D85-4503-45B5-88EA-AF0076F7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B5BCA-9B19-46D2-B93E-7982A128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46440-5EF5-4274-A7C5-C66142B2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8D103-4407-4BE8-A1A9-D4A002A1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3D8B4-8E57-41AC-81B3-EED3EF69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126E5-C675-4CD6-8DC5-2DE95BF3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FF561-FD25-4656-A830-C3B1242E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91383-16FD-44A8-B227-D44428F2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48088-0F29-42EB-9F1C-67A4016F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A33D5-5544-4227-887E-6D73BB49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3AA52-3A0F-4050-847D-E2A99200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FDB2-09C3-4867-8C0D-AE20C247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4E570-514E-4B58-950E-F08717FD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ABCFB-2CB4-459D-8DDD-387EAB2C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4B6A3-A73E-47FE-825D-5D598718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F15C0-FEFB-4F0F-ABC0-6925FA14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81BF0-BEDA-4FEA-AEF3-0DD142BC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8C8BE-2389-4B80-A28B-FCB4170A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64CE4-DB88-48AD-816E-EA4B271D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D0FBC-312C-433B-8DAF-38550E81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76F1E-9862-42FB-A3DC-E8BA30A1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75686-4701-44F4-A0C4-ADB46B94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713C-462F-4C47-8716-C7947042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BD561-9AEC-48DD-9B56-89A06D35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49B68-A332-477B-A510-A9303549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5D1BF-F9CE-467C-98A7-DD88EB7E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DBDFA-AC13-4C75-B02B-B3FD25E9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42914-2C01-4B04-B1E5-BF3CDE5A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859BB-1E49-4517-B63A-5DBF87E7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4B2F0-6F05-4DE3-8257-65EC1EE4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D7521-0FE7-4B89-94D7-3296404A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3C3D0-24E3-4FF5-A88C-18F20A2B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FF038-D930-4716-AFFA-5E76CBC9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C0F-F996-41DE-BF9F-D479D6C5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06CBE-9E62-4B16-8FC7-209D6A82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FECB4-4300-4030-9619-C9743687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F0F0C-A89C-4749-B3EB-46801694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A1F36-B706-4D0A-8DB5-5B04EC37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EA3CB-6EA4-44F5-BFB8-0EDFC32D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4328E-0542-4965-B385-E98883E2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78901-C9D0-463C-8718-F8ED4474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8021C-9F21-4AE4-8315-D6B17495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BC2E3-18B9-4576-B5D1-6FAAE605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8CB9A-818B-4EDF-9650-6B07FA8A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A473-44A2-42C3-B43C-0674679EE253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1F39-0D4E-49D2-8849-54FCAE79038C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163F-4CF7-4330-815D-18B3C24F5619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CF13-7646-4AC4-879C-B9F57017F6F9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1EFF-1C1D-4CB0-AFBE-6BF16B97C019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9345-71F3-403B-B14D-9D3E0E22958D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2244-B203-44FF-9F65-718317D6D5C7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38D8-4754-445A-A0E0-5E92378CD2C0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D295-14DD-488E-AB48-0AAA7E62F79B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978C-8632-48FD-AB4A-2FB0583D6084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6" descr=""/>
          <p:cNvPicPr/>
          <p:nvPr/>
        </p:nvPicPr>
        <p:blipFill>
          <a:blip r:embed="rId2"/>
          <a:stretch/>
        </p:blipFill>
        <p:spPr>
          <a:xfrm>
            <a:off x="603360" y="1427040"/>
            <a:ext cx="7937280" cy="6546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FE59-9D7B-4C37-A6D5-410096880AE2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3F9B-7E35-433B-A9A8-FF8D35BBB9E5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74E0-3228-4A2C-A324-959973F460A2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7370-3EFA-457A-95BE-1ED7E4A9BB4E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17CF-57F8-4810-83DF-A089C62D2C1F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A564-DCC6-4E9B-8E68-47AB5462BC48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9DA4-4B27-4A5A-BC89-CE0722E3C713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C710-4A12-4349-B862-E34BEADF7030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8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reeform 9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Freeform 10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Freeform 11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Freeform 13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143B-DF85-49EC-A593-856A381E948D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A4CB-84F5-4609-A021-A26C88222236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375E-21E7-4BB4-B930-8A4855909354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B188-5584-4621-80DD-A4E924B3B90F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F255-8FB6-4C42-8581-48BF3F012ABC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0BD0-E5F0-49A9-A4AA-4B7079DD7FD2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8AD9-B7FF-4000-9333-1241AB742436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5393-5881-426B-88F1-91C4285A0932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Scientific Investigation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Observations and Inference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60" name="Content Placeholder 4" descr="Smash up at Vega.jpg"/>
          <p:cNvPicPr/>
          <p:nvPr/>
        </p:nvPicPr>
        <p:blipFill>
          <a:blip r:embed="rId1"/>
          <a:stretch/>
        </p:blipFill>
        <p:spPr>
          <a:xfrm>
            <a:off x="2666880" y="2362320"/>
            <a:ext cx="36925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14" descr="MPj04066980000[1]"/>
          <p:cNvPicPr/>
          <p:nvPr/>
        </p:nvPicPr>
        <p:blipFill>
          <a:blip r:embed="rId1"/>
          <a:stretch/>
        </p:blipFill>
        <p:spPr>
          <a:xfrm>
            <a:off x="2133720" y="2666880"/>
            <a:ext cx="5638680" cy="375948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Qualitative vs. Quantitative observation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0" y="159984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Qualitative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(descriptive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cute, fuzzy, tan colored lion has sharp teeth and a long tai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97844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Quantitative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(number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500 kg lion has 6 cm long claws at the end of each of its 18 to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41160" y="1600200"/>
            <a:ext cx="3749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749480" y="1600200"/>
            <a:ext cx="37479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91" name="Picture 4" descr=""/>
          <p:cNvPicPr/>
          <p:nvPr/>
        </p:nvPicPr>
        <p:blipFill>
          <a:blip r:embed="rId1"/>
          <a:stretch/>
        </p:blipFill>
        <p:spPr>
          <a:xfrm>
            <a:off x="2514600" y="685800"/>
            <a:ext cx="409572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rbel"/>
              </a:rPr>
              <a:t>Most important scientific tool?</a:t>
            </a:r>
            <a:endParaRPr b="0" lang="en-US" sz="4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18840" y="1599840"/>
            <a:ext cx="7878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YOUR POWERS OF . . 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63" name="Rectangle 3" descr=""/>
          <p:cNvPicPr/>
          <p:nvPr/>
        </p:nvPicPr>
        <p:blipFill>
          <a:blip r:embed="rId1"/>
          <a:stretch/>
        </p:blipFill>
        <p:spPr>
          <a:xfrm>
            <a:off x="1243080" y="1487520"/>
            <a:ext cx="704196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Observation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6324480" y="220968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685800" y="1523880"/>
            <a:ext cx="7772400" cy="74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Observation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using your senses to describe the world around you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These are facts and not opin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BSERVATION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PIN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green and slim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It’s totally gros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scored 5 go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He’s the greatest pla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cken is greasy and toug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cken tastes fun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 kids wore blue to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 is their favorite co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Your Senses … Your Friend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41160" y="1600200"/>
            <a:ext cx="78166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84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Using your sens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ght – color, size, shape, numbers, patterns, movement,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ouch – textures (sharp, dull, rough, smooth, fuzzy, hard, soft, wet oily, dry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mell – sweet, rotten, strong, fresh, spicy, minty, like strawberri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Hear – loud, soft, high, low, quick, long, quie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astes – salty, sour, bitter, sweet (umami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38400" indent="-3384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41160" y="1600200"/>
            <a:ext cx="3749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71" name="Picture 4" descr="http://www.branchlawfirm.com/images/toxic_waste.gif"/>
          <p:cNvPicPr/>
          <p:nvPr/>
        </p:nvPicPr>
        <p:blipFill>
          <a:blip r:embed="rId1"/>
          <a:stretch/>
        </p:blipFill>
        <p:spPr>
          <a:xfrm>
            <a:off x="4495680" y="434340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3" descr="http://simpsonovi.comics.cz/media/Obrazky/Homer/images/HOMER10.JPG"/>
          <p:cNvPicPr/>
          <p:nvPr/>
        </p:nvPicPr>
        <p:blipFill>
          <a:blip r:embed="rId2"/>
          <a:stretch/>
        </p:blipFill>
        <p:spPr>
          <a:xfrm flipH="1">
            <a:off x="2133720" y="2895480"/>
            <a:ext cx="1658880" cy="3381480"/>
          </a:xfrm>
          <a:prstGeom prst="rect">
            <a:avLst/>
          </a:prstGeom>
          <a:ln w="0">
            <a:noFill/>
          </a:ln>
        </p:spPr>
      </p:pic>
      <p:grpSp>
        <p:nvGrpSpPr>
          <p:cNvPr id="573" name="Group 18"/>
          <p:cNvGrpSpPr/>
          <p:nvPr/>
        </p:nvGrpSpPr>
        <p:grpSpPr>
          <a:xfrm>
            <a:off x="3733920" y="1523880"/>
            <a:ext cx="2133360" cy="1417680"/>
            <a:chOff x="3733920" y="1523880"/>
            <a:chExt cx="2133360" cy="1417680"/>
          </a:xfrm>
        </p:grpSpPr>
        <p:sp>
          <p:nvSpPr>
            <p:cNvPr id="574" name="AutoShape 16"/>
            <p:cNvSpPr/>
            <p:nvPr/>
          </p:nvSpPr>
          <p:spPr>
            <a:xfrm>
              <a:off x="3733920" y="1523880"/>
              <a:ext cx="2133360" cy="137160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Text Box 17"/>
            <p:cNvSpPr/>
            <p:nvPr/>
          </p:nvSpPr>
          <p:spPr>
            <a:xfrm>
              <a:off x="4038480" y="1752480"/>
              <a:ext cx="15235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hh… This liquid is glowing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ree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and slimy and it is leaking from a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row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metal can.  I also smell i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58800" y="1536840"/>
            <a:ext cx="7826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58800" y="3218040"/>
            <a:ext cx="782640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Corbel"/>
            </a:endParaRPr>
          </a:p>
        </p:txBody>
      </p:sp>
      <p:pic>
        <p:nvPicPr>
          <p:cNvPr id="578" name="Picture 2" descr="C:\Users\Anthony\Pictures\2008-09-04 August 2008\August 2008 228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Content Placeholder 4" descr="Mars.jpg"/>
          <p:cNvPicPr/>
          <p:nvPr/>
        </p:nvPicPr>
        <p:blipFill>
          <a:blip r:embed="rId1"/>
          <a:stretch/>
        </p:blipFill>
        <p:spPr>
          <a:xfrm>
            <a:off x="1523880" y="228600"/>
            <a:ext cx="62755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Making Observation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04920" y="1600200"/>
            <a:ext cx="3962160" cy="46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89000"/>
          </a:bodyPr>
          <a:p>
            <a:pPr marL="310680" indent="-310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Qualitative Observ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0680" indent="-3106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Using descriptive words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310680" indent="-3106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Uses senses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310680" indent="-3106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Examples: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lvl="1" marL="610200" indent="-29952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arge round head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0200" indent="-29952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rotten smel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0200" indent="-29952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rusty brown scab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0200" indent="-29952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ittle furry blue pet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10680" indent="-3106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1640" y="1600200"/>
            <a:ext cx="4343400" cy="46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2000"/>
          </a:bodyPr>
          <a:p>
            <a:pPr marL="321120" indent="-3211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Quantitative Observatio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21120" indent="-3211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</a:t>
            </a: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ing numbers to describe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321120" indent="-3211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Forms of measurement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321120" indent="-3211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Examples: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0 cm tal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50 k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10 F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10 kph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1:37:29Z</dcterms:created>
  <dc:creator>Anthony</dc:creator>
  <dc:description/>
  <dc:language>en-US</dc:language>
  <cp:lastModifiedBy>Teacher</cp:lastModifiedBy>
  <dcterms:modified xsi:type="dcterms:W3CDTF">2009-09-02T06:35:00Z</dcterms:modified>
  <cp:revision>6</cp:revision>
  <dc:subject/>
  <dc:title>Slide 1</dc:title>
</cp:coreProperties>
</file>