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083-0B2C-4096-88FA-7A0AFDDA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455-6BD7-42AB-9319-1EEFD11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6C1C3-3D7D-4057-82E7-C083CE3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8C10-79C7-4EA0-9E31-C77D511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331E-7C86-49F3-B6F9-F55A78BF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1A56-DB7A-4157-8154-7DD3924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6F2B-D1E0-4A42-BBC0-3493ADA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47AAF-4E47-4EEA-BB0E-6795F27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67506-4FF3-4D7B-AF83-C412581D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861F-2BF7-4667-8D27-0711AC17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9B64-DD99-4F93-ADB0-618122F8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B87CD-3CEB-427B-8E43-9BCDBA68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73E-2180-4030-9F2C-AD96CE4C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39ADB-5FB3-44B0-B592-15A7FAA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49B9-7906-4C2C-82A0-09029C5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25C00-34D1-4226-B8CB-51E2AEC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26735-8001-4D95-815E-AE3A821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B9AA9-915B-43F3-A006-DC9A803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1686F-39BE-413A-B9AF-3972FD1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4DE2-A8D6-43BF-B234-0A54CE3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08E47-4759-4EB2-BDB7-B510437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5A9B5-E9A5-437B-982E-19E20B2C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9AD2-0944-4374-A8C6-85BB80F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A10-BDD7-417D-8D6A-1896B02C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09CF8-FC7E-4E4C-90F3-F6277ED7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FAEA0-3503-486B-90D1-09EF8F2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14B00-5468-4AEA-8F6F-2A784FB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E95C6-8EFC-4C4C-9E20-99962927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82499-905E-43ED-BB91-F70C6137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AEE5-AFEB-43FD-B3B6-205B608C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9D84-B25F-4227-9256-4604C669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A2C6C-2DAD-489D-865A-2D9C3D1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328C1-E6E2-4104-8117-E1CC5E1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5C910-C685-49DD-8FB1-6A39624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E581-3A9F-4595-A25A-99B5288D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6AB3-B132-47DA-84B1-E49DB20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2837-516C-45A2-8B85-1152BDC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5B26-9FAF-4D88-919E-45C52C5D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44FF8-BCD5-418B-A7BE-0B4F9C7D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054A-E77E-4A40-9387-7753EE8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669F2-7AE4-40A5-BF06-E8D45C9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08570-DC55-4561-800F-AFA7F9D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B8CE6-1F46-4F8B-BF8A-D5B3561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F959A-6391-4858-BB1C-1C3DBF1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E89E1-BF95-490E-B957-6CB5634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B1A-01A4-451D-8B45-8F1E5CD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4F4D0-9994-450F-ADD4-C2BE610B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C5E02-928C-4686-84FE-4160163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A5A02-8ED0-4B77-95D9-954D240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D4327-A9AC-4A28-8400-DDED21DD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F8EF9-CCEC-46CA-AF02-8D63F992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9A025-6ACB-49FF-A514-08099321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597C5-D634-44FE-8614-5459528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0A494-C1A7-418C-8088-307B38B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EA882-6E4B-4B08-B7A3-F423CA1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4ECAA-F977-4C56-AF41-C792CB5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9C73-6ED8-4D27-8AC2-F22210FB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B310-F86E-41A8-922F-7850CDBF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B1C1D-AB5E-48D0-8063-80437AF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3977A-D487-4179-A13A-58E5D21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12D54-AF65-433B-A576-A742973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A3981-8BBF-4F25-9866-229491A9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4CBAA-AA3A-45A1-95F4-59C9C64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C9554-9BE1-4E88-81B8-E37987B4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1C06-76AD-486A-B8BF-D580367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68D5-6684-475E-A6F7-3B552D2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E74-4C93-479B-9E41-866801D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AFEE-4DF5-48DA-BA6E-4A43373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C12-D05C-4DBC-AA09-0106426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817A-C6CC-4F86-91A7-A4B0ECC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2F7-98D6-4BAD-9F4A-3533D04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F28-16E4-4047-8E30-40E9AE37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559-864D-4CB6-8032-3B94C5E2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D48F-5111-4AB2-87BD-C9D9966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C596-496C-4A86-A837-2269242B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14D2-6F05-47BF-85C5-CE91E73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3E58-B245-4CE7-A10C-437870DC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250B-4CB8-414D-A272-73283AF5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0499-D4E2-4237-AE2A-797AE41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CA8-1E9D-4899-9948-0E23F57F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4B6B-F2EA-4CA2-922B-434A432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7E5E-4CCD-42E4-A212-A1BC336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766C-FE29-4A9B-864B-9976BD3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AC1B-D3B4-4BD3-9E8E-8BB26D4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0BEF-794A-48AF-9E48-E664A5C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7022-A1FA-42AC-9C22-7248EDE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C6AE-C5F2-45DF-9997-FEA41245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666D-9AE3-485B-91BA-4D2E481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418E-310D-4492-B3EB-4489B5C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F527-79AF-4FED-BB6F-44FD4C3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B9A-BB5D-4268-B140-51DD972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1181-ABE5-4A64-AE6B-1236DDB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6097-26D8-4A18-8078-0F9A1372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C240-6F5E-4714-8346-B197CF16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5064-197D-4A5D-802E-41E4400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8553-31A7-4E12-BC84-727B6D0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79E9-1335-4D55-9CF6-B1056B8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4A7D-E538-4F63-9E5A-8A49AC21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C6ED-678F-4F0B-B1B5-9588C91A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6422-E712-41A5-968E-B549EEB1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02D3-2AFF-4E8B-B5D4-2D7059A4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E93-1B56-4398-8BD1-8AC3BAEF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1D64-302C-48B3-8CC3-A4D5443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3DE1-B1DB-48B8-B6B8-8C05BFE9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7A9C-0703-402F-838A-DE4B6B14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B190-216D-4E49-B3B2-A1D9701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2742-C987-4CB8-A7D1-29A07BE6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8FCC-B3FB-4FE8-B450-A783A72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AA7A-157D-40EC-97F1-371EDDC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40E9-72BC-48A9-9162-7347A358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889D-AC1D-4BF6-A672-44C2CF7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59BB-5A80-4BAF-83F9-597DF6C6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786-109E-4532-9E4A-4BC15330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0EA1-FB71-49B4-BA84-412CEBEC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0BD1-7041-4687-860A-AAA4A5D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F029-40C8-4684-8FC8-511C415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5C8B-4430-4995-A481-E97F15D0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AA31-455C-4343-8FED-D0177BF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C4E4-A5CE-4E55-9C4C-2BCB629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26318-F798-4BA7-BF90-3D6380C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4FD6-BCBE-443E-8DFC-8A38F2B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1CA3-4926-4E4F-9E6E-9D6717D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D515-9B84-457B-867E-F2DF2FD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8A0-0279-4D95-9C38-FAF1524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24F0-C08D-4325-8A2B-4E49CFF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3FE4-6E9A-40F4-918D-9E44B57C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C297-CB54-459C-B824-D5405B16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888A-27D3-4741-86E2-7ECEB601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28BA6-67BF-4501-9BAF-534CDEA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1E52-C2A2-4A6F-8BBC-0804FE3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71F3-556F-4805-9FF8-F46B37B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B4AE-B376-474E-8C5F-1CEB2C3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6070-F609-42A0-866C-A980F08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6886-B9D9-4F26-9559-EE99387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763-1EA5-402A-8896-B27C30C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AC76-0256-4032-ADB7-304A349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1B68-0713-47E2-BF87-0A4CF26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3958-D915-4B90-80DE-D7E74D9B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51D26-6924-4D57-B637-1B35DFA1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2903C-CBED-4874-AE8B-87BCC78F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779B9-D518-433B-BE74-FDDB54E8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54140-D066-4393-8C2A-647147E3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AB84-DCC2-411F-9614-83A7A29F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32816-AB85-42B4-A480-609E1A2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8B25-23C7-4CC7-8ACF-69D63C0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52D-1C29-4E13-8DC9-463C2FF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613A-A521-4A81-AFA9-E18AE691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BE6FE-D867-4346-A46D-DAAA56B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25AF-8357-4A3F-BCAB-8A1FCF6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B179-0D08-41EC-B4FA-EB53D43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88B0-1A76-4AA5-A6FB-73E5618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C1606-F791-4CCE-9A76-4BC7322F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35D8-2340-4C32-BF53-031199A9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06415-743A-48F5-A1AA-CF4E8CB1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738F-D659-4E04-90CB-ED415D5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64F5C-70CE-483A-A87E-EBA30C6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4F29-12C5-4A33-903E-F55424D2456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3CE-CAE7-4381-BA1B-1CE30246F12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684-BBFE-4E0F-86CF-37BA5E4EBC3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9AB-EEFB-4712-81EA-30F20F6A822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9A58-602D-4EF6-9E71-B7A3AA0D409C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F85-C443-4910-856F-D2A5931DD4C5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2FA-6CBC-4AC1-B19D-EF5C62673C4E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532-0798-48AC-A1AE-3EECFFB28B52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DB8-12D4-4032-AE9F-860E948D2EDA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BD67-EC43-4011-9BDA-51ED992114BC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2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B83-823A-4772-BAEA-85F54D1B306D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D53-F35C-440E-9E5F-E5B617F2607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84E-41C7-4191-94A3-1B7C783BCA35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0A85-473D-4454-9893-D4A762542BD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F75C-122B-4277-AE70-36ADA9B19E04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128C-5777-4B5B-A232-F7B77169520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4F1-4CA1-454A-B3C8-7D3A135AAD0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A9D-18F5-4067-94E7-9C7E4DA56E4A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1094-24B1-49B1-8EB3-F743534AEDD6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06B-86A8-46CC-906E-F0D756CA121F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B82-2DD1-4AA7-862B-F44F3D4411A2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043-3F32-48EF-A878-5A3BB981C49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EDD3-371E-4613-9010-7281251F8497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FA5-2DB7-4C3E-A4D8-F0C0B30EBC5B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7308-F0C7-4E68-99C6-2FC16A8CDA43}" type="datetime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0A2-1839-4FED-A498-12301F1E5860}" type="slidenum">
              <a:rPr b="0" lang="en-US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cientific Investigation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bservations and In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0" name="Content Placeholder 4" descr="Smash up at Vega.jpg"/>
          <p:cNvPicPr/>
          <p:nvPr/>
        </p:nvPicPr>
        <p:blipFill>
          <a:blip r:embed="rId1"/>
          <a:stretch/>
        </p:blipFill>
        <p:spPr>
          <a:xfrm>
            <a:off x="2666880" y="2362320"/>
            <a:ext cx="3692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4" descr="MPj04066980000[1]"/>
          <p:cNvPicPr/>
          <p:nvPr/>
        </p:nvPicPr>
        <p:blipFill>
          <a:blip r:embed="rId1"/>
          <a:stretch/>
        </p:blipFill>
        <p:spPr>
          <a:xfrm>
            <a:off x="2133720" y="2666880"/>
            <a:ext cx="5638680" cy="3759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Qualitative vs. Quantitative observ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l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descriptiv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cute, fuzzy, tan colored lion has sharp teeth and a long ta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97844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Quantitative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(number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500 kg lion has 6 cm long claws at the end of each of its 18 to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49480" y="1600200"/>
            <a:ext cx="3747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095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rbel"/>
              </a:rPr>
              <a:t>Most important scientific tool?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8840" y="1599840"/>
            <a:ext cx="787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UR POWERS OF . . 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3" name="Rectangle 3" descr=""/>
          <p:cNvPicPr/>
          <p:nvPr/>
        </p:nvPicPr>
        <p:blipFill>
          <a:blip r:embed="rId1"/>
          <a:stretch/>
        </p:blipFill>
        <p:spPr>
          <a:xfrm>
            <a:off x="1243080" y="1487520"/>
            <a:ext cx="70419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Observati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324480" y="22096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85800" y="1523880"/>
            <a:ext cx="77724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sing your senses to describe the world around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These are facts and not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green and slim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It’s totally gro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cored 5 go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He’s the greatest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is greasy and t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cken tastes fun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 kids wore blue to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is their favorit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Your Senses … Your Friend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41160" y="1600200"/>
            <a:ext cx="78166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sing your sen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ght – color, size, shape, numbers, patterns, movement,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uch – textures (sharp, dull, rough, smooth, fuzzy, hard, soft, wet oily, dr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mell – sweet, rotten, strong, fresh, spicy, minty, like strawber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ar – loud, soft, high, low, quick, long, qui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astes – salty, sour, bitter, sweet (umam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38400" indent="-338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41160" y="1600200"/>
            <a:ext cx="3749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1" name="Picture 4" descr="http://www.branchlawfirm.com/images/toxic_waste.gif"/>
          <p:cNvPicPr/>
          <p:nvPr/>
        </p:nvPicPr>
        <p:blipFill>
          <a:blip r:embed="rId1"/>
          <a:stretch/>
        </p:blipFill>
        <p:spPr>
          <a:xfrm>
            <a:off x="449568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http://simpsonovi.comics.cz/media/Obrazky/Homer/images/HOMER10.JPG"/>
          <p:cNvPicPr/>
          <p:nvPr/>
        </p:nvPicPr>
        <p:blipFill>
          <a:blip r:embed="rId2"/>
          <a:stretch/>
        </p:blipFill>
        <p:spPr>
          <a:xfrm flipH="1">
            <a:off x="2133720" y="2895480"/>
            <a:ext cx="1658880" cy="33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18"/>
          <p:cNvGrpSpPr/>
          <p:nvPr/>
        </p:nvGrpSpPr>
        <p:grpSpPr>
          <a:xfrm>
            <a:off x="3733920" y="1523880"/>
            <a:ext cx="2133360" cy="1417680"/>
            <a:chOff x="3733920" y="1523880"/>
            <a:chExt cx="2133360" cy="1417680"/>
          </a:xfrm>
        </p:grpSpPr>
        <p:sp>
          <p:nvSpPr>
            <p:cNvPr id="574" name="AutoShape 16"/>
            <p:cNvSpPr/>
            <p:nvPr/>
          </p:nvSpPr>
          <p:spPr>
            <a:xfrm>
              <a:off x="3733920" y="1523880"/>
              <a:ext cx="2133360" cy="137160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7"/>
            <p:cNvSpPr/>
            <p:nvPr/>
          </p:nvSpPr>
          <p:spPr>
            <a:xfrm>
              <a:off x="4038480" y="1752480"/>
              <a:ext cx="15235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hh… This liquid is glowing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and slimy and it is leaking from 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ow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metal can.  I also smell i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8800" y="1536840"/>
            <a:ext cx="7826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8800" y="3218040"/>
            <a:ext cx="782640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orbel"/>
            </a:endParaRPr>
          </a:p>
        </p:txBody>
      </p:sp>
      <p:pic>
        <p:nvPicPr>
          <p:cNvPr id="578" name="Picture 2" descr="C:\Users\Anthony\Pictures\2008-09-04 August 2008\August 2008 228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Content Placeholder 4" descr="Mars.jpg"/>
          <p:cNvPicPr/>
          <p:nvPr/>
        </p:nvPicPr>
        <p:blipFill>
          <a:blip r:embed="rId1"/>
          <a:stretch/>
        </p:blipFill>
        <p:spPr>
          <a:xfrm>
            <a:off x="1523880" y="228600"/>
            <a:ext cx="627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Making Observations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396216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litative Observ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ing descriptive word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Uses senses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 round h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ten sme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usty brown sca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10200" indent="-29952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ittle furry blue pe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0680" indent="-310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1640" y="1600200"/>
            <a:ext cx="4343400" cy="46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Quantitative Observa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</a:t>
            </a: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ing numbers to describe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Forms of measurement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21120" indent="-321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 cm ta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k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F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10 kp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720" indent="-309600">
              <a:spcBef>
                <a:spcPts val="601"/>
              </a:spcBef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37:29Z</dcterms:created>
  <dc:creator>Anthony</dc:creator>
  <dc:description/>
  <dc:language>en-US</dc:language>
  <cp:lastModifiedBy>Teacher</cp:lastModifiedBy>
  <dcterms:modified xsi:type="dcterms:W3CDTF">2009-09-02T06:35:00Z</dcterms:modified>
  <cp:revision>6</cp:revision>
  <dc:subject/>
  <dc:title>Slide 1</dc:title>
</cp:coreProperties>
</file>