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03CC-948F-4BBC-A45B-63E157F65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E3DE-4CAB-414F-BCBC-84D041C8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0FC219-FA18-45D1-A47B-714B3317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E4C76F-9650-41FA-92C0-63F257D6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E1E382-A9D8-4059-B9AF-9C9D7432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21AE2B-B0F8-4606-A816-81A9E125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4A023-9731-4AFC-98A7-EC8EE39E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70B7BB-316A-4CFF-9AD0-C81BDBCC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C14855-0F2D-478E-B855-0DA244E0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DAD64A-53EE-42B9-9CB9-6C20131C2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D0E62A-7AFE-4611-B864-55E933361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C5D5CD-AEE7-433A-9D4C-ED5E9C30B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47D4-89FD-4F49-8CBE-48DF29A1E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BB58F6-4C4F-460C-84FB-22BE09B4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A3A8B6-697B-4951-AE30-CB8208E0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BC883B-8353-41D2-B3A6-289B173A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E14696-A14D-475B-A63A-E3D2B841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862291-009C-4391-8F2A-4BAD5664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43DACC-85AD-41D4-A928-65601E4D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537A37-990B-45D3-91EA-A44221E6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590C41-2604-4D48-8D1C-6DA810CE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0E7BAB-DC85-4838-ADF3-8F4A7C72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71AC96-6B37-46EF-8DB5-E35E75936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2E60-D02C-428E-B17B-5E5C02AA5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B58A08-B82F-4475-BFF4-D619A1718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93F86D-E3C2-4CBF-86FE-D837FEA4C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D003FD-12BD-47E3-802F-11C54F74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C5C7F-20BF-49FF-92C0-36D06A42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B20E5-443B-46D6-907A-89103ECD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CD911-250F-4127-8A41-0A546E72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6C5309-4036-41AF-9B9B-9B7C2337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D48E9-25E7-4408-B5D4-6EC4C0C4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5D62B-A392-46B1-8C44-CA5B1748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6ECF12-D3E4-4093-BE46-C8FA31A8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CC8D-BB6E-487C-A8EC-1720FBBF7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E17F5-57A1-48FF-AA90-030BA9D2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E0F92A-8E86-4B96-A522-777403197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10108-BCCF-4B03-83DA-C9C338C87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27EF7E-FD44-442F-8B5E-27D7344BD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BAE155-1DBA-43E5-B5BB-B041A12A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36029C-FA57-429B-AB3C-A15F749F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3EB186-B56D-4BA2-96E4-6452F73A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B91D2B-40D4-4B81-BFE4-05F783AF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66EFB8-DCD1-4506-8EB6-82516133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C3867E-AEB5-45E9-BF9C-708AFF27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43AB-ED43-4595-A33C-36003F6C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9D909A-03D5-4189-9310-9889AF02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08FDA6-9D56-459E-A439-DA006882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295F49-0CB0-4C0E-A29D-B4454BC8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A75E87-19D6-4A64-8B5F-B7E8F05DF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17912A-B763-488F-BBAC-C747FFF2F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E66A15-26E4-4BB8-B642-C92A957A2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68C772-805F-4422-9A52-15F366CD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83DCCA-C8B0-43F5-8B33-62237F49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478831-E764-4E32-8239-D72106FF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6EE2AA-4A46-46F4-A19D-28B5036D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438F-B0A9-4FD8-A16A-7CFB5102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F0FD20-FA75-40E0-BBA2-37E74433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CF2769-99CA-4959-84D5-A2B724BC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BF2657-F077-4A2D-A636-AD08547E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AE06F2-48CD-4C94-A277-8A0530D8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BDE321-89E6-4E0C-B1DE-1022CAB8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61FBC7-9A51-48FD-B11D-9572ACCAB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8F328B-3CD1-4863-91DC-4DF4EDE69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CB76-D2FC-4F90-8DB6-46A2C53D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B765-EDE5-401E-9A94-D47B9B28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50A0-F704-4950-84AA-4396ED18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8AAA-6046-4145-A4B3-EB47358D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6121-F0C4-4FDA-8E01-66465DB7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B082-042B-4978-8A12-4BB4FB5B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38CD0-4D00-423C-958B-B1E57D91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6DF6-8CCE-4D77-A9DD-39C30E9F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0D609-ED98-4C8F-9918-3EA51A2DA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2710-9033-4032-B56A-1C3424EA4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66958-FA2F-4AFB-A39E-442A38B1C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5A3F8-70FE-4670-AB68-A9C4E7AC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98493-02B3-4098-B516-EC271FCD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6562A-6221-4FDD-9BEC-6C9947E9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EB5B5-093D-4553-9EE5-E5C73001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E392-FDAB-41FE-910E-C797DCA4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FFBCA-4D28-4C98-8887-C948901E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25F2C-822B-4B38-8745-0A92E74C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2AC9F-C1D0-4095-84D2-8397088C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06C56-4F72-4DB2-A5D8-2902A304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0B86B-11B0-4001-8461-FBDAED6D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80BAF-5ADF-4C7E-9719-45B7AAACF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CC513-ACA3-4341-9087-C3FB9E053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4A8F4-410E-46D5-B867-DA5343D43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54615-E598-4631-95FC-A3E24E6E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69CC6-E8CC-4E1D-A595-B9196490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99D5-9E93-49DE-9113-D38BE551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E128F-7DB2-4757-8C45-18CC5EFC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1ED31-5A52-4B8A-AF7E-5CD9CF49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431EC-6D4D-4D86-952D-236785BD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F99BF-BE5E-48A6-BC29-98FBCE80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48FFD-3C53-4A76-87A0-D1D0F08B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1CB4C-47A8-4862-85A7-79AB6E34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3AA33-89B4-48B5-83AE-B3F39B7A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9CDF6-5C76-4DD8-BF20-C8A7E3D8E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7FFD0-5557-4E7C-BC81-0A9CD73F4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52FEB-0A67-4107-B31E-99A5A21D9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2C5F-0678-4E6B-8A36-0ED64EC5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6BEDB-B292-4B1C-A71C-20B57B4D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79423-BE0B-42EC-842B-2F797F90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D6F78-4AE7-461C-96C7-69CDB68A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B1409-915B-45F5-BFD7-45A7690C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B24B0-1F22-446E-A25F-179BB2DD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982A9-87A5-4C0E-9E20-0F2B552B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FA8E4-0D4E-4A0C-A353-07ABE32F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27B52-7F1D-470E-BD05-0167BB48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FEEB3-B78A-4BF1-9C1F-08C0916A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141D4-9DD8-4522-9035-56557A69D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B6FB-6BE6-4A87-B1F3-5971E17E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1817A-E24C-4B57-B03A-C75D8B2D6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050C7-E215-417F-A69F-481638CD0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038D0-7111-48BC-89DB-7A139609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210EA-E898-48A5-9EC2-5EC6C1A1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C1EC1-411A-4B3B-8E39-26182112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6A423-7533-49F2-A5EA-87231570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5C2DC-B4F4-460A-8DAD-8C0D0F03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5920C-1534-4341-A27C-4945CA2B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08D14-A03F-484A-A4B4-F066CBD7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2D4E0-99F1-4BE2-B9B6-4FF7BBF5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685A-37CE-4278-9738-B4F85714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EC2E4-5C58-472E-B1A6-6C632AB2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D04F9-F958-4002-B573-8BF5DAD91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A7A91-B673-4846-95BB-BB2DB94AD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5BC27-B6F1-4937-A011-6683C77B3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0B381-B16B-4E35-8664-9EFF34EA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2894B-D86B-4B79-9DEA-579CB87E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56A57-DF0A-46FC-A498-51B69E3E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A78C8-BFB2-4A9A-BCAF-63BC9527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057D3-43DB-4317-AA8C-75E32ACB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C9ECC-BDF5-4A48-84DE-01ED1AB5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C40E-D582-4EAA-A689-80502621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1A92A-2474-4175-8915-68C7B59E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3D36F-615C-441B-ADBD-AB0FF97F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5EB4D-2939-4417-A2B9-A4B580C3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F1909-39F1-4319-B065-9610363DB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AE12A-08AC-4564-AE35-CFE8ED61A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75C08-6DC9-4E02-9FC5-723C0517A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BB359-8889-42EF-8F1D-D2CCA2D9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7F806-17A4-4663-8D15-D3B4760A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FEABC-AE30-4A19-B468-529B6C4E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A8750-6EA8-42E7-8D9F-01A358DA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6A08-BA6F-4A2B-B342-A9DAB75A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01B97-6BDF-46FD-8BFF-82CEAB93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C52D5-93F0-4E4B-B3D5-CE92EED7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6BE18-A81D-4684-B7C7-B8626754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0D5EB-F671-4B3A-B5CB-D2D167AE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EE4B9-8AD6-4D27-96DF-7DC38104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24914-BED6-4D73-878B-8B6E7D087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E6E8B-56DF-4B6B-B8D2-CEC9426C8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5B20E-BBB2-4779-A5C7-6DAD9489C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9309DB-9D8F-47D0-82A6-DCA57E41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4C2AEE-817A-4609-8F39-32FDD557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252E-8DFF-4AB9-82A0-28C16D515443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5B10-9BE6-422A-BCE9-F197F991E6AE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Freeform 6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FAF6-0667-4165-8C04-C77694E47B36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A42E-6131-420E-864C-E77CEE02D722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Freeform 6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8A53-F797-459E-9F4E-37E0303BAED8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1DFE-DA11-4431-B46C-A774DC0D5A81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69BC-6D3E-47A2-8087-A9AE125E727A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2A9C-F519-4FEB-A689-970F0AE47B85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reeform 6"/>
          <p:cNvSpPr/>
          <p:nvPr/>
        </p:nvSpPr>
        <p:spPr>
          <a:xfrm>
            <a:off x="281160" y="25884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7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D713-3B75-4247-AC4E-36CA25957E28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8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9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9257-ED3C-4C3A-A3DB-A308A6DC029A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6" descr=""/>
          <p:cNvPicPr/>
          <p:nvPr/>
        </p:nvPicPr>
        <p:blipFill>
          <a:blip r:embed="rId2"/>
          <a:stretch/>
        </p:blipFill>
        <p:spPr>
          <a:xfrm>
            <a:off x="603360" y="1427040"/>
            <a:ext cx="7937280" cy="6546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5B28-0128-47DE-BC3E-3A02CA194C5E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A3E6-3391-45F3-A935-3D671D4B23B7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F23D-5C20-406E-95C5-CA8C07202B63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8D44-A96E-4A60-B71C-88AEB33761D4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6006-3872-4D8C-AE2D-F48E638DB1F3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4D88-3A36-4C39-A7D4-2C7713B373BA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22FC-7D77-4A62-A042-73517D2B5829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AF04-D2AE-41E6-AC88-F57C8BCB0D48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Freeform 8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Freeform 9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Freeform 10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Freeform 11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Freeform 12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Freeform 13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DBF9-88B0-41C7-9AFD-2DAC4D7EAB34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6CBA-BF88-48F9-A348-8BAAF58FF1D6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reeform 6"/>
          <p:cNvSpPr/>
          <p:nvPr/>
        </p:nvSpPr>
        <p:spPr>
          <a:xfrm>
            <a:off x="281160" y="25884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DB90-576E-41D2-BFC1-F2D689788995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914D-0814-40FA-B5EA-211D1DC7EFA9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reeform 6"/>
          <p:cNvSpPr/>
          <p:nvPr/>
        </p:nvSpPr>
        <p:spPr>
          <a:xfrm>
            <a:off x="281160" y="25884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FA17-C3CD-4DA6-BE9A-2F9A45151DE1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D200-24CF-4CC9-9E4A-9EAAD7466F68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Freeform 6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5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0490-6D6F-4443-990E-E021293801D2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6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7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D839-FFCE-4BB2-81C5-B7BC7366AE3D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Scientific Investigation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Observations and Inference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60" name="Content Placeholder 4" descr="Smash up at Vega.jpg"/>
          <p:cNvPicPr/>
          <p:nvPr/>
        </p:nvPicPr>
        <p:blipFill>
          <a:blip r:embed="rId1"/>
          <a:stretch/>
        </p:blipFill>
        <p:spPr>
          <a:xfrm>
            <a:off x="2666880" y="2362320"/>
            <a:ext cx="369252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14" descr="MPj04066980000[1]"/>
          <p:cNvPicPr/>
          <p:nvPr/>
        </p:nvPicPr>
        <p:blipFill>
          <a:blip r:embed="rId1"/>
          <a:stretch/>
        </p:blipFill>
        <p:spPr>
          <a:xfrm>
            <a:off x="2133720" y="2666880"/>
            <a:ext cx="5638680" cy="375948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rbel"/>
              </a:rPr>
              <a:t>Qualitative vs. Quantitative observation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0" y="1599840"/>
            <a:ext cx="40370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rbel"/>
              </a:rPr>
              <a:t>Qualitative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(descriptive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 cute, fuzzy, tan colored lion has sharp teeth and a long tail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97844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rbel"/>
              </a:rPr>
              <a:t>Quantitative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(numbers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 500 kg lion has 6 cm long claws at the end of each of its 18 toe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zoom dir="ou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9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" dur="5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641160" y="1600200"/>
            <a:ext cx="37494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749480" y="1600200"/>
            <a:ext cx="374796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91" name="Picture 4" descr=""/>
          <p:cNvPicPr/>
          <p:nvPr/>
        </p:nvPicPr>
        <p:blipFill>
          <a:blip r:embed="rId1"/>
          <a:stretch/>
        </p:blipFill>
        <p:spPr>
          <a:xfrm>
            <a:off x="2514600" y="685800"/>
            <a:ext cx="4095720" cy="54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rbel"/>
              </a:rPr>
              <a:t>Most important scientific tool?</a:t>
            </a:r>
            <a:endParaRPr b="0" lang="en-US" sz="4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618840" y="1599840"/>
            <a:ext cx="7878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YOUR POWERS OF . . 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63" name="Rectangle 3" descr=""/>
          <p:cNvPicPr/>
          <p:nvPr/>
        </p:nvPicPr>
        <p:blipFill>
          <a:blip r:embed="rId1"/>
          <a:stretch/>
        </p:blipFill>
        <p:spPr>
          <a:xfrm>
            <a:off x="1243080" y="1487520"/>
            <a:ext cx="704196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Observation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5" name="Text Box 10"/>
          <p:cNvSpPr/>
          <p:nvPr/>
        </p:nvSpPr>
        <p:spPr>
          <a:xfrm>
            <a:off x="6324480" y="220968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11"/>
          <p:cNvSpPr/>
          <p:nvPr/>
        </p:nvSpPr>
        <p:spPr>
          <a:xfrm>
            <a:off x="685800" y="1523880"/>
            <a:ext cx="7772400" cy="74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Observation: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using your senses to describe the world around you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-These are facts and not opin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BSERVATIONS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PIN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green and slim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It’s totally gros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scored 5 goa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He’s the greatest play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hicken is greasy and toug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hicken tastes fun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0 kids wore blue to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ue is their favorite col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Your Senses … Your Friends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641160" y="1600200"/>
            <a:ext cx="781668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8400" indent="-3384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Using your sens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ight – color, size, shape, numbers, patterns, movement,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ouch – textures (sharp, dull, rough, smooth, fuzzy, hard, soft, wet oily, dry)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mell – sweet, rotten, strong, fresh, spicy, minty, like strawberrie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Hear – loud, soft, high, low, quick, long, quie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astes – salty, sour, bitter, sweet (umami)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38400" indent="-3384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641160" y="1600200"/>
            <a:ext cx="37494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71" name="Picture 4" descr="http://www.branchlawfirm.com/images/toxic_waste.gif"/>
          <p:cNvPicPr/>
          <p:nvPr/>
        </p:nvPicPr>
        <p:blipFill>
          <a:blip r:embed="rId1"/>
          <a:stretch/>
        </p:blipFill>
        <p:spPr>
          <a:xfrm>
            <a:off x="4495680" y="4343400"/>
            <a:ext cx="1809720" cy="14288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3" descr="http://simpsonovi.comics.cz/media/Obrazky/Homer/images/HOMER10.JPG"/>
          <p:cNvPicPr/>
          <p:nvPr/>
        </p:nvPicPr>
        <p:blipFill>
          <a:blip r:embed="rId2"/>
          <a:stretch/>
        </p:blipFill>
        <p:spPr>
          <a:xfrm flipH="1">
            <a:off x="2133720" y="2895480"/>
            <a:ext cx="1658880" cy="3381480"/>
          </a:xfrm>
          <a:prstGeom prst="rect">
            <a:avLst/>
          </a:prstGeom>
          <a:ln w="0">
            <a:noFill/>
          </a:ln>
        </p:spPr>
      </p:pic>
      <p:grpSp>
        <p:nvGrpSpPr>
          <p:cNvPr id="573" name="Group 18"/>
          <p:cNvGrpSpPr/>
          <p:nvPr/>
        </p:nvGrpSpPr>
        <p:grpSpPr>
          <a:xfrm>
            <a:off x="3733920" y="1523880"/>
            <a:ext cx="2133360" cy="1417680"/>
            <a:chOff x="3733920" y="1523880"/>
            <a:chExt cx="2133360" cy="1417680"/>
          </a:xfrm>
        </p:grpSpPr>
        <p:sp>
          <p:nvSpPr>
            <p:cNvPr id="574" name="AutoShape 16"/>
            <p:cNvSpPr/>
            <p:nvPr/>
          </p:nvSpPr>
          <p:spPr>
            <a:xfrm>
              <a:off x="3733920" y="1523880"/>
              <a:ext cx="2133360" cy="1371600"/>
            </a:xfrm>
            <a:prstGeom prst="wedgeEllipseCallout">
              <a:avLst>
                <a:gd name="adj1" fmla="val -43750"/>
                <a:gd name="adj2" fmla="val 7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Text Box 17"/>
            <p:cNvSpPr/>
            <p:nvPr/>
          </p:nvSpPr>
          <p:spPr>
            <a:xfrm>
              <a:off x="4038480" y="1752480"/>
              <a:ext cx="152352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hh… This liquid is glowing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reen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and slimy and it is leaking from a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brown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metal can.  I also smell it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58800" y="1536840"/>
            <a:ext cx="7826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658800" y="3218040"/>
            <a:ext cx="782640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98989"/>
              </a:solidFill>
              <a:latin typeface="Corbel"/>
            </a:endParaRPr>
          </a:p>
        </p:txBody>
      </p:sp>
      <p:pic>
        <p:nvPicPr>
          <p:cNvPr id="578" name="Picture 2" descr="C:\Users\Anthony\Pictures\2008-09-04 August 2008\August 2008 228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Content Placeholder 4" descr="Mars.jpg"/>
          <p:cNvPicPr/>
          <p:nvPr/>
        </p:nvPicPr>
        <p:blipFill>
          <a:blip r:embed="rId1"/>
          <a:stretch/>
        </p:blipFill>
        <p:spPr>
          <a:xfrm>
            <a:off x="1523880" y="228600"/>
            <a:ext cx="62755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8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Making Observations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304920" y="1600200"/>
            <a:ext cx="3962160" cy="465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89000"/>
          </a:bodyPr>
          <a:p>
            <a:pPr marL="310680" indent="-3106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Qualitative Observat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0680" indent="-3106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rbel"/>
              </a:rPr>
              <a:t>Using descriptive words</a:t>
            </a: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marL="310680" indent="-3106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rbel"/>
              </a:rPr>
              <a:t>Uses senses</a:t>
            </a: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marL="310680" indent="-3106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rbel"/>
              </a:rPr>
              <a:t>Examples:</a:t>
            </a: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lvl="1" marL="610200" indent="-299520">
              <a:spcBef>
                <a:spcPts val="601"/>
              </a:spcBef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large round head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10200" indent="-299520">
              <a:spcBef>
                <a:spcPts val="601"/>
              </a:spcBef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rotten smel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10200" indent="-299520">
              <a:spcBef>
                <a:spcPts val="601"/>
              </a:spcBef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rusty brown scab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10200" indent="-299520">
              <a:spcBef>
                <a:spcPts val="601"/>
              </a:spcBef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Little furry blue pet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10680" indent="-3106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1640" y="1600200"/>
            <a:ext cx="4343400" cy="465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2000"/>
          </a:bodyPr>
          <a:p>
            <a:pPr marL="321120" indent="-3211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Quantitative Observation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21120" indent="-32112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s</a:t>
            </a:r>
            <a:r>
              <a:rPr b="0" lang="en-US" sz="2700" spc="-1" strike="noStrike">
                <a:solidFill>
                  <a:srgbClr val="ffffff"/>
                </a:solidFill>
                <a:latin typeface="Corbel"/>
              </a:rPr>
              <a:t>ing numbers to describe</a:t>
            </a: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marL="321120" indent="-32112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rbel"/>
              </a:rPr>
              <a:t>Forms of measurement</a:t>
            </a: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marL="321120" indent="-32112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rbel"/>
              </a:rPr>
              <a:t>Examples:</a:t>
            </a: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lvl="1" marL="630720" indent="-309600">
              <a:spcBef>
                <a:spcPts val="601"/>
              </a:spcBef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10 cm tal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30720" indent="-309600">
              <a:spcBef>
                <a:spcPts val="601"/>
              </a:spcBef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50 kg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30720" indent="-309600">
              <a:spcBef>
                <a:spcPts val="601"/>
              </a:spcBef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110 F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30720" indent="-309600">
              <a:spcBef>
                <a:spcPts val="601"/>
              </a:spcBef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110 kph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30720" indent="-309600">
              <a:spcBef>
                <a:spcPts val="601"/>
              </a:spcBef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30720" indent="-309600">
              <a:spcBef>
                <a:spcPts val="601"/>
              </a:spcBef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01:37:29Z</dcterms:created>
  <dc:creator>Anthony</dc:creator>
  <dc:description/>
  <dc:language>en-US</dc:language>
  <cp:lastModifiedBy>Teacher</cp:lastModifiedBy>
  <dcterms:modified xsi:type="dcterms:W3CDTF">2009-09-02T06:35:00Z</dcterms:modified>
  <cp:revision>6</cp:revision>
  <dc:subject/>
  <dc:title>Slide 1</dc:title>
</cp:coreProperties>
</file>