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B25F-841E-450F-9356-EEF7683A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2601-E629-4176-9D0F-8CFDB743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2E751-41A1-4780-AC4A-12C57911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F04D4-2D83-49EE-ACE0-ACD03CB6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96D29-5702-4E3A-8DF0-51A803AC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359DC-FC6C-4622-8B4B-00A2808C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2F70D-E5BE-4B32-99BF-E7D2175A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CE4B2-F234-4496-A6A6-A19A2D0D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2EC9C-3E99-45CA-8E43-21511644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507DC-9DAC-4011-B7B3-0DC0FF45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DC210-6F94-439F-8E58-47748F0F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0C233-C38D-4DA0-B4DB-9826D2B3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752D-7F0F-4BDA-8726-F854AC83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4FF0D-AF11-4E5D-A55B-2E0037A0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41988-D866-4AC3-8FFD-47586AAF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897D3-6FAC-4807-9F9F-AAFB348F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9E43D-2910-41A5-8F8C-ECA6C660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34E91-03C7-462C-BF69-1C62B776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FFEAC-90DA-4F30-8094-6EE560B0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402A8-ED30-49A4-AB4A-3ADA8699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7BCB4-D7BD-4C78-A0A0-710C38D3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E3F3B-4B54-4DC9-979C-94E0E567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F86D7-2755-45FF-AB6D-EFBE7D97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D5F2-5BEE-4355-9BB1-D3458A0E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CC407-EB9F-4F0E-82B5-BA11B8A5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64F7E-6BF3-49F8-AFE8-EE7B690C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7F9A4-B328-4736-A5E9-B65EE22E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3BBAB-7B04-4176-8873-DBB56616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B5569-FDE9-4E40-BDB9-62A56FC9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B6632-2779-4A0D-9598-97092C6C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DFC41-876D-4D8A-856E-4AB30E3D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7C77F-6B95-4B01-82A5-19D36D80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8C5E0-75D5-477D-B539-1B015007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2D699-0125-4884-9D08-CD379D11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186B-D771-4236-A8C9-568D105D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10A31-8FB5-4C8C-A772-CCC1EA21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D773C-1BE7-4573-90C4-E046BF51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09F25-1CFD-4072-9C74-AF2C6DFB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E2663-A89F-4BF6-8BB9-0C50AFF0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892FD-F16E-4CA5-8B7F-D9D80DC0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CBC428-A126-4479-AE4C-B90527CC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81895-6895-4A0E-8793-17B0A35F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42ACF-4ED7-4999-9894-56FEBEEF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851A0-032D-411A-A3EC-790DB93E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1940B-5CC1-4442-8638-1FF550BB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17BF-748F-4A1A-91F3-1F73040E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1E162-F342-4F30-A9A0-27F9AFE1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FE7FE-C712-4940-BEA2-294E7264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0BF15-31FC-45AD-9B96-AB1EE8D6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B9F37-DAA1-494D-8A2C-F3F97D6E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B9F27-D034-431F-BDEE-EB1ABA4D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69CDAD-E4B7-44FB-9833-0CA561E6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F127C2-7520-4E85-8F14-80EA7566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5F31F5-A971-4C35-B50B-9B7CBAEB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A04BDA-0B2A-41C5-A24B-B177FEBF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DEF8E5-76BA-47B6-9CA5-EEA36C1D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44DD-0080-4A01-9A5C-123E5F53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E2C364-8B47-4F62-BB8D-D15A368C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8B1490-A759-4969-9B0A-8339868C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42ADB1-8358-4FB4-BC52-FBDE12EB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5362EA-5074-44BB-943A-755C1651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3E622F-01E2-4218-B076-81226D04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A8D179-7F52-4815-86B9-35F359A8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CF210E-3D3D-49DE-96A2-F3A89C79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A480-287F-4B39-AA85-5574ECD1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4E52-BC3F-407F-B893-B309A174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9548-4944-422F-8147-82811F0B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0EA9-0D8C-4F67-AD1A-E5881E3C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25AA-F21C-40AE-9906-317D3E97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AD09-4EA6-4ED2-847B-FED93158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0BB9-EA49-451D-A65D-7648080D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99ED-7A59-4EA3-BE5D-37EDEBAE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DBEC-64C8-451C-91C2-05789F9C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BC09-58F6-46ED-B722-BDB25B76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789DB-2A9B-42F8-BD44-0769B4D0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990A0-4177-4AAE-A58A-F337F01C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DC01D-806C-4502-9513-9C3E1460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37BF4-EDD0-48D3-BBA2-32F0858A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24B5B-8EE4-4EDD-8863-2B32838F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260-0CA0-458D-9036-495FB15C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3925F-692B-43C0-B015-E73072D5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EB92F-CD75-4516-972E-8485AD92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AE105-4F36-462F-A04B-5B9612A0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73F3A-9EC1-4710-8BEC-1FD41E34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5EAB3-ABE4-412F-9899-947BD599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13C79-E531-44FC-A2C6-74C630C8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AF897-F3FD-4413-A265-CDF794CF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ED60C-EAB9-4B23-B68B-1A92AFBE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F019D-57B9-49A9-9301-AF62EAB1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C6941-3A88-40A2-9F5B-055F8BC0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92B8-087B-4AD4-8F9B-4AEE7D92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4C8CC-72A7-44DF-8E23-3C498D61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D0EC8-AB8D-4AC5-9F1E-6F39895B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5234C-2918-4855-AF91-D157061F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3FDFF-172E-44B8-AA7B-30AB2CE5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844C2-9E7B-4F4A-8DF9-CA35893A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ED3E5-DDA3-4887-BFA6-22E6DF44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B8649-219F-4A5E-BF27-843CAA29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433B3-5793-42FB-AC18-663437BF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F8268-BC80-4908-9215-C081D3FA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216B0-67DD-479C-998D-D59E58C3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6AF3-53AE-4959-8786-9F6B1123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41216-3856-4298-B90D-2184758C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8B085-8E12-45ED-A635-E1B01A26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D6620-841E-4664-BE02-50F6B1D5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06B9B-8E3A-472C-8179-4ED848EE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092F5-5565-414A-A8A6-7C1B3B78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7378A-E6F4-4438-B917-7EEA8A62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5B615-7151-4C6D-A930-124AB218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52333-BD08-4E1C-B72B-6B08D85C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17936-E44A-4B0B-90B6-2AEC2B33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EB6ED-95A6-450E-86BA-BB4CDDEF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9AEC-7051-40D4-A724-ADCC0CB5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E85B8-847F-4E11-8426-DC52A52A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EF968-C815-441E-9415-61315580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E0C85-9975-4BD7-9D90-452A456B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A311C-EE7E-4FEC-AAB4-6C989D2D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5C258-4F32-4E76-9BD5-65563E03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67C5F-7C93-48AC-94D1-53A1FBA1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268DD-F270-4B6B-BD3E-B68B511D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266F1-7BB7-4460-8B70-534760E0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D827A-6B0F-4B91-B008-D9342BBE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9D1D1-0534-4E02-8E65-2BD3D242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DE4F-CDFD-495B-959E-8234883D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6A1C0-28A2-4685-99F9-8C140B40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F036A-47A6-42C4-8127-BCA4B778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60A0C-DB63-4BAF-9137-2D0A11D9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4D981-9894-4CCD-BCF9-4A6D74EF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CE158-5C42-46D7-B273-69283736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FD0A5-8DAB-48AC-AB3E-5234350C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3CC89-F1F5-4B42-ACE3-CD255048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88983-7D02-4746-8A6E-44741755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537CB-5A0E-4BEE-8712-CBC307BB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DCFCA-947D-42F0-82A9-FD721A26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6FC8-57EB-41DB-8C58-87E41BD7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98772-FC68-4211-AE30-99D275CA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FE661-F2FA-4830-B044-1D8A1150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B256C-829E-4700-B102-D2855DFD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E739B-4DF5-4708-85FC-20576C97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409B5-2DE9-4319-BF37-046BA1BE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E2084-DD5F-41FF-925F-B13CD808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80F09-A0D4-4349-8639-9F5FA86D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48B0A-E536-4EFC-BFA9-1163AD6D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D1F99-39B3-49EF-B7DC-F9A376D9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90BEF-1693-4E23-9F9B-A5E62F2E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464D-06E2-4EF3-ACD9-B7AD7213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7A8AA-5388-4D19-9B90-50FF881D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8649C-C86F-4C35-8571-8DFA1018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441E9-4D02-49ED-964C-190BCEB7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75627-9E3F-42A6-9F9C-95F95FC3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F5B18-7B12-4217-A416-83C0AA8E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274E6-A8C6-4BA5-86B8-7F4EC1D4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D7AE8-CEC7-4DA2-AE4B-5A1248CC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B9C2E-D9DF-46ED-AE08-7C1EF819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069A8-C44D-4673-B66A-42B158C9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2B793-F860-420A-988A-6D5BAD98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709B-BE09-4BE0-AFF5-D4FAAE188BD7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32BD-6CD1-480C-95D1-0C12087DE733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6061-AF34-411A-9942-9DB15C539D3D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D389-43C8-4BE8-B8ED-FCDB8AA0E204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6E32-3F66-417E-9D0A-E2EFA292A4D8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871B-F625-4794-B0A0-6C98D03D0415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0212-BBE3-4EAA-B7F7-A4774ABCCFF5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AD10-EBA7-471B-A5E1-E3B0D44B10CA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E05E-CC56-4FFA-BCA8-39491F195F90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9EE5-7824-4AD3-B997-48C05A9FC3CC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6" descr=""/>
          <p:cNvPicPr/>
          <p:nvPr/>
        </p:nvPicPr>
        <p:blipFill>
          <a:blip r:embed="rId2"/>
          <a:stretch/>
        </p:blipFill>
        <p:spPr>
          <a:xfrm>
            <a:off x="603360" y="1427040"/>
            <a:ext cx="7937280" cy="6546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0BF4-F961-4685-91D3-32853B3ED2EB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3B30-9E6F-4296-AD13-05C1E532DC35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8F65-92FB-4630-B73C-9DD9A4E12477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7F49-0375-4F0A-A522-FE2C08BF0ED8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FEE0-8B10-41C5-A630-DB34F9C7EBA6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8BCA-16B2-437A-9321-8B77DC7F1AC0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BAFF-30DC-4FFF-BD33-72E670961983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EA04-BA20-4E4D-A46B-2D7BDE4634EC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Freeform 8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reeform 9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Freeform 10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Freeform 11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Freeform 12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Freeform 13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FB4A-01B8-4F19-B162-F8A9F96F1689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F005-F9F7-4137-B7D0-1F7C44A6223C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82DB-1C03-4958-B351-DCF54434D7F4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35C0-331B-44BF-914B-C6E46EBC2CCE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6E83-10C9-4E3F-BBC1-7B053A7C794A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640B-35ED-4DCA-B0F3-0DD6488A3956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4FEA-63C3-49DB-8741-C30FE03E5A11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7963-5BEC-427E-AE57-93E931927D66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Scientific Investigation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Observations and Inference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60" name="Content Placeholder 4" descr="Smash up at Vega.jpg"/>
          <p:cNvPicPr/>
          <p:nvPr/>
        </p:nvPicPr>
        <p:blipFill>
          <a:blip r:embed="rId1"/>
          <a:stretch/>
        </p:blipFill>
        <p:spPr>
          <a:xfrm>
            <a:off x="2666880" y="2362320"/>
            <a:ext cx="36925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14" descr="MPj04066980000[1]"/>
          <p:cNvPicPr/>
          <p:nvPr/>
        </p:nvPicPr>
        <p:blipFill>
          <a:blip r:embed="rId1"/>
          <a:stretch/>
        </p:blipFill>
        <p:spPr>
          <a:xfrm>
            <a:off x="2133720" y="2666880"/>
            <a:ext cx="5638680" cy="375948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Qualitative vs. Quantitative observation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0" y="1599840"/>
            <a:ext cx="4037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rbel"/>
              </a:rPr>
              <a:t>Qualitative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(descriptive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cute, fuzzy, tan colored lion has sharp teeth and a long tai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97844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rbel"/>
              </a:rPr>
              <a:t>Quantitative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(number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500 kg lion has 6 cm long claws at the end of each of its 18 toe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41160" y="1600200"/>
            <a:ext cx="3749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749480" y="1600200"/>
            <a:ext cx="37479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91" name="Picture 4" descr=""/>
          <p:cNvPicPr/>
          <p:nvPr/>
        </p:nvPicPr>
        <p:blipFill>
          <a:blip r:embed="rId1"/>
          <a:stretch/>
        </p:blipFill>
        <p:spPr>
          <a:xfrm>
            <a:off x="2514600" y="685800"/>
            <a:ext cx="409572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rbel"/>
              </a:rPr>
              <a:t>Most important scientific tool?</a:t>
            </a:r>
            <a:endParaRPr b="0" lang="en-US" sz="4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18840" y="1599840"/>
            <a:ext cx="7878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YOUR POWERS OF . . 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63" name="Rectangle 3" descr=""/>
          <p:cNvPicPr/>
          <p:nvPr/>
        </p:nvPicPr>
        <p:blipFill>
          <a:blip r:embed="rId1"/>
          <a:stretch/>
        </p:blipFill>
        <p:spPr>
          <a:xfrm>
            <a:off x="1243080" y="1487520"/>
            <a:ext cx="704196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Observation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6324480" y="220968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11"/>
          <p:cNvSpPr/>
          <p:nvPr/>
        </p:nvSpPr>
        <p:spPr>
          <a:xfrm>
            <a:off x="685800" y="1523880"/>
            <a:ext cx="7772400" cy="74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Observation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using your senses to describe the world around you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These are facts and not opin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BSERVATIONS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PIN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green and slim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It’s totally gros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scored 5 go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He’s the greatest pla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icken is greasy and toug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icken tastes fun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 kids wore blue to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ue is their favorite co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Your Senses … Your Friend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41160" y="1600200"/>
            <a:ext cx="78166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84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Using your sens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ght – color, size, shape, numbers, patterns, movement,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ouch – textures (sharp, dull, rough, smooth, fuzzy, hard, soft, wet oily, dry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mell – sweet, rotten, strong, fresh, spicy, minty, like strawberri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Hear – loud, soft, high, low, quick, long, quie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astes – salty, sour, bitter, sweet (umami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38400" indent="-3384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41160" y="1600200"/>
            <a:ext cx="3749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71" name="Picture 4" descr="http://www.branchlawfirm.com/images/toxic_waste.gif"/>
          <p:cNvPicPr/>
          <p:nvPr/>
        </p:nvPicPr>
        <p:blipFill>
          <a:blip r:embed="rId1"/>
          <a:stretch/>
        </p:blipFill>
        <p:spPr>
          <a:xfrm>
            <a:off x="4495680" y="4343400"/>
            <a:ext cx="1809720" cy="14288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3" descr="http://simpsonovi.comics.cz/media/Obrazky/Homer/images/HOMER10.JPG"/>
          <p:cNvPicPr/>
          <p:nvPr/>
        </p:nvPicPr>
        <p:blipFill>
          <a:blip r:embed="rId2"/>
          <a:stretch/>
        </p:blipFill>
        <p:spPr>
          <a:xfrm flipH="1">
            <a:off x="2133720" y="2895480"/>
            <a:ext cx="1658880" cy="3381480"/>
          </a:xfrm>
          <a:prstGeom prst="rect">
            <a:avLst/>
          </a:prstGeom>
          <a:ln w="0">
            <a:noFill/>
          </a:ln>
        </p:spPr>
      </p:pic>
      <p:grpSp>
        <p:nvGrpSpPr>
          <p:cNvPr id="573" name="Group 18"/>
          <p:cNvGrpSpPr/>
          <p:nvPr/>
        </p:nvGrpSpPr>
        <p:grpSpPr>
          <a:xfrm>
            <a:off x="3733920" y="1523880"/>
            <a:ext cx="2133360" cy="1417680"/>
            <a:chOff x="3733920" y="1523880"/>
            <a:chExt cx="2133360" cy="1417680"/>
          </a:xfrm>
        </p:grpSpPr>
        <p:sp>
          <p:nvSpPr>
            <p:cNvPr id="574" name="AutoShape 16"/>
            <p:cNvSpPr/>
            <p:nvPr/>
          </p:nvSpPr>
          <p:spPr>
            <a:xfrm>
              <a:off x="3733920" y="1523880"/>
              <a:ext cx="2133360" cy="1371600"/>
            </a:xfrm>
            <a:prstGeom prst="wedgeEllipse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Text Box 17"/>
            <p:cNvSpPr/>
            <p:nvPr/>
          </p:nvSpPr>
          <p:spPr>
            <a:xfrm>
              <a:off x="4038480" y="1752480"/>
              <a:ext cx="15235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hh… This liquid is glowing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reen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and slimy and it is leaking from a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rown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metal can.  I also smell i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58800" y="1536840"/>
            <a:ext cx="7826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58800" y="3218040"/>
            <a:ext cx="782640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8989"/>
              </a:solidFill>
              <a:latin typeface="Corbel"/>
            </a:endParaRPr>
          </a:p>
        </p:txBody>
      </p:sp>
      <p:pic>
        <p:nvPicPr>
          <p:cNvPr id="578" name="Picture 2" descr="C:\Users\Anthony\Pictures\2008-09-04 August 2008\August 2008 228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Content Placeholder 4" descr="Mars.jpg"/>
          <p:cNvPicPr/>
          <p:nvPr/>
        </p:nvPicPr>
        <p:blipFill>
          <a:blip r:embed="rId1"/>
          <a:stretch/>
        </p:blipFill>
        <p:spPr>
          <a:xfrm>
            <a:off x="1523880" y="228600"/>
            <a:ext cx="62755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Making Observation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04920" y="1600200"/>
            <a:ext cx="3962160" cy="46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89000"/>
          </a:bodyPr>
          <a:p>
            <a:pPr marL="310680" indent="-3106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Qualitative Observ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0680" indent="-3106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Using descriptive words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310680" indent="-3106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Uses senses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310680" indent="-3106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Examples: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lvl="1" marL="610200" indent="-29952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arge round head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10200" indent="-29952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rotten smel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10200" indent="-29952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rusty brown scab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10200" indent="-29952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ittle furry blue pet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10680" indent="-3106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1640" y="1600200"/>
            <a:ext cx="4343400" cy="46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2000"/>
          </a:bodyPr>
          <a:p>
            <a:pPr marL="321120" indent="-3211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Quantitative Observatio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21120" indent="-3211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</a:t>
            </a: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ing numbers to describe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321120" indent="-3211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Forms of measurement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321120" indent="-3211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Examples: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0 cm tal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50 k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10 F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10 kph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1:37:29Z</dcterms:created>
  <dc:creator>Anthony</dc:creator>
  <dc:description/>
  <dc:language>en-US</dc:language>
  <cp:lastModifiedBy>Teacher</cp:lastModifiedBy>
  <dcterms:modified xsi:type="dcterms:W3CDTF">2009-09-02T06:35:00Z</dcterms:modified>
  <cp:revision>6</cp:revision>
  <dc:subject/>
  <dc:title>Slide 1</dc:title>
</cp:coreProperties>
</file>