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11C-9061-4D0F-A8FC-2738EA8B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50A-5AB8-40BA-8817-492AF56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7DF7E-7E75-43D6-8A72-9F32E903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E47D-7D59-4D35-8ED0-F90F6289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FF79-7A4E-4B4E-8B2A-05FC9EC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56F87-81F2-4849-956A-38AF5E3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206E8-536B-403A-B352-FE69401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F3B6D-047F-4A31-8384-EDABE97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F5C93-B10F-4C08-945A-B53DA6A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55433-9AF6-41C5-90A8-5BD92D0D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93010-3FAB-46F6-87BC-058D3990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FC5C5-F4F8-4159-889A-3A97E644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C6B-66DA-4E4F-ACF8-9A18FADE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9B45D-C319-4F20-B8DB-986E1EEB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308EB-29F8-489C-908B-D15E8C9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570AE-A474-4FE8-ADCD-E028740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DF368-3AF9-4566-998F-FC59D121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E5FA-1B95-4BF0-A8D8-D5C51B7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286B1-27C4-4980-BE97-8D1447E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E831C-416E-4451-A0CF-3341C5D3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B5022-9599-4B9C-9CA5-351BF16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C65C7-F702-4EC5-BE19-1AE95E7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7C34C-4885-41B1-81CA-89031F72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92E-B100-4907-9BB3-86A81AEE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283CA-E52C-49BA-AE8A-9F0863B1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45B7-C6A6-4D8E-8F05-DA84519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05A6-6619-4F8E-8E7F-C25372D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6398E-B7F5-4D6B-8E18-8982896A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F3CDF-8BF5-41CD-BFA5-279F50E2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2E72-61FB-4496-AECE-48458E95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3D88-D967-41C8-A649-FA5D6B6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A122-82B5-4BED-A901-085FC76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862B3-45A2-4604-BF68-39DEF7B0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48AA8-BD38-48C3-8352-9A465D72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C20-2C03-49C3-9BD0-DBC2FFF1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6AAFD-6111-4246-859C-DA4B318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8455D-FE12-4186-87C0-7DEDE0C6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7846C-7B7C-41D1-B6E9-173DE0E9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7B952-419C-4B75-B4E6-97B18324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5B136-1AED-46DC-B1E6-D8110A5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82531-A4C6-4E89-BA0C-4D6C47A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7AE0C-D97F-46C2-B1E6-355FD94F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C546-8EBD-4069-B662-6185E77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45BC6-11E6-4E28-90CD-3CDF6860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B1D77-E0BA-49D2-A7AC-737E77D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3CA-D850-44C0-B994-749BDE5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53470-A138-4259-A01D-F989DB88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542E1-969F-4217-9F0F-D273BD1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B5683-3A24-4695-A137-33468EB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3FD3D-0E18-4DBB-8F0D-8F03EC7C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78C08-AE83-470B-AF80-2A9E1390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0D85E-FF69-4090-8AD0-BA7582FF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86D75-2C31-468D-92AD-59FBBF0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ADBBA-B286-4A05-B470-E2BFAFD5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EF739-EDD3-4193-AC7A-167844B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D8B9B-F23F-4C57-861B-13480237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493-BA61-43D4-905A-90C4A46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259DE-6BD3-4CCE-8AF2-9A162C7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65894-497B-42FA-A896-469FF00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007E1-902A-4CCD-8D99-C1303770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174B1-0EC8-40ED-BB68-638EF0F1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B3B00-3704-43AD-B954-5923EF2D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B464D-29B0-42FE-A93E-A8E0DDB3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46FFF-27AD-4A6D-8447-C69EF694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76C4-46B1-48B7-937E-D41C3F3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AFB-FB26-4A52-B8A0-C322683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E4A4-380A-47FD-9549-B3C94D8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582F-B5D3-4185-A987-8B96AB1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3E2-3940-43A2-8372-1435E29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2922-EDA3-41FE-BADF-E136512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CDE6-ABC3-47AF-AEAB-E30F0A8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7CC9-50DE-4614-BD88-028FFFFF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647-794B-454B-831A-79FDE240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E7E-A498-4132-A042-138003DB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0642-BF81-4762-9704-8BB47BC8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80A5-88D4-4CD8-9B2E-20BB3C7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4DFC-D20D-468B-9803-462C92B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D0A3-7EA3-4E04-9FA3-CF3D8E6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74E7-B1E6-4B34-A609-AA070469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D10-358B-4E88-9535-F5B3C5A5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4840-5442-40D5-A7AD-0099E67B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06A6-8CAE-4273-A2C5-D8382F4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59E2-B5A9-4B40-B416-2BEF17E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1A98-2620-49E9-901C-09FB6EB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C083-0ED1-409C-B03A-5344607D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BB24-A75B-40FB-8A84-3291E462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74C5-F36C-4D81-BA78-ED0B6016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DCA3-37AC-47C4-9705-282D485D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2B0DF-DD79-48ED-B0C9-9E1F8EA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5830-DBCE-4D63-802B-E73510C7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779-B9E3-4FA3-B5AF-7B75D39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FE27-7EAD-4288-8F9C-26A3A1BA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EE31-EF46-4E94-BA06-665F6B0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5E2D-03FC-4DA8-81FB-BD9B299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DE2C-4BBF-485D-A82C-7656481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8D326-8374-4FED-8C72-0BDE0D6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508E-B534-42E8-BA65-EF9FE5E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022E-C028-4CDD-B1FA-0112D07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43D0-0B20-49BC-94C5-EE0C2E7F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C150-6367-4BC4-BDCA-951B8B0C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F2F39-3F4D-448B-AE9D-B9802F52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588-4550-4F1C-BA8F-FF4AF45A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D81B-C13E-41F4-BECE-6CC44D09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E858-EC37-4CF1-B4A8-BE7CB305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3D8A-5461-44D0-9D8F-8F13E73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30EA-C3FE-4E50-B641-EA6F38E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FF1E-550C-4A09-9A03-299D9E61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B17B-30CE-43F0-8387-D1E09AA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2D91-BE48-409F-ADAE-6110091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9F3E-355E-4ED7-BA2E-50A4D2E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1D3F-62A6-4252-BA05-82629B31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A8DEB-A7B3-4CF1-8F36-8CE52D39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908-7F4F-47AE-AF1A-961E05D0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6B70-F88E-44F5-9436-8D72E78A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C1D8-9395-469A-8C91-6AAEA94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5C58-60C8-407B-8569-30E34F5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14BD-9A1E-4DBA-AB45-89974E4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A55C-E6B0-4161-921B-7B4ADF8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5FF9-8380-4FE1-8A6F-494335E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C8974-62D3-441F-A778-FCC8DE36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B7986-E52B-4CD8-8F78-A1FC127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51E64-0418-4ABA-B951-0D12675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34E4-C14D-42BB-8156-054FFFF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945-E334-4F8A-BAC5-01925B8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3AFA-9410-42BC-93BE-EA9F7C1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682D-2B59-407A-8FD8-6F07073D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F7AF0-46FC-48EE-B6EF-B3B5A975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D3B9-144F-4C2A-BDF6-0D3507EF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C7EAB-FE91-4124-83EA-97F7A6E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54F1E-3FAC-4190-88D9-6FCA3DDD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9F42-A2FB-4184-AB44-61ED024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7354B-21CB-4B9A-BC4F-24D4F0C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AEA6-CAFC-4804-95EE-618E4BF9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CECA-8E63-4EED-9E57-22F8D87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C19-AC1F-4473-A6F9-89078FC5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50DE6-F70E-4F00-BACD-943C657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B1E5-5FC7-4C3F-92A9-6833A27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DE64-4F19-4615-8934-CA5998D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2DDA-31DC-4FAD-877E-BA385931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BE6F-72C0-40D4-8DCA-EA50C38B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A80AC-1942-42B2-AC1C-E388B4EA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6528-FE3B-49AD-9A6C-C0A8232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4B95-7D67-4AE1-9233-046ED97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65DD-4BCF-4DCA-B4E3-31D1AFFE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47F18-E038-4FDB-B180-4252914B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D4D-FC54-4FE6-9A2E-3A725B1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3DA8E-7B19-459F-86FF-C024309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DCAF-4B8C-41AD-9C9C-823D8DB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802FF-F58C-4477-AFBD-D9A802E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35710-684F-4FA6-82A8-EF938E9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79BD-F6F5-4B71-88F5-0474D0F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33DD-4047-461A-9D9A-00C3F18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AE32-38DD-44AF-96DC-91642D6C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AB193-B5CC-4E4A-9124-91BB4007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38767-1786-4D61-8D5E-38E8D8A0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2E29F-855A-4965-96DE-EC59425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899C-0AC1-4D0A-8D36-7FED51DABA6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2D2-B33F-4F52-89C5-A137D5EE136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AE4-AFA5-4770-B27F-AFEABAED894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DDF-908A-46A3-9C5B-D8FD2CE8880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C7F2-3DBD-47F0-8242-3002C8B6202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E2C-687B-4B68-BBCF-53F7B11A55F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18C-FC62-48DE-9ADD-A096BF9BE05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A9E-3951-41EF-B4C2-57B9561CCF0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EC8-D495-4E6C-ABCE-A1969B0A517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1194-0EC0-460C-ACBB-05D1B314CD6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2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C74-F7E7-4E8B-AA7D-08AB59D3D80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8EA6-7AB0-487F-9AEC-10B9721BC03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EF7-E9A9-4EBB-B696-F89ED4293D6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E9C7-2B91-4AD5-90F8-77C48DEA67C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C1E-7806-4B81-A7F0-E5B5FAA5A60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65E6-0827-4791-87F7-5E55C6AC436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B13B-822E-4603-9554-21352A9E524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958-2C92-4FD1-BD4F-DFBE2ABA8E1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E4A-C43F-418F-BF1E-D2486D32A21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305-0FD3-407E-B78C-D4F8999787C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B72-E5BE-4691-ACEA-17D9A33EEA4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564F-6441-44B4-BF9D-7E5AFE416A5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F50-6187-4BC2-B497-8EF01FFC398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770A-9F30-4330-ABE4-160B0E66FE3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863-FAC8-4469-B991-EDDF69E0F04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F89-2D6A-4E2D-9B4E-FF4FAC467B0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cientific Investigation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bservations and In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0" name="Content Placeholder 4" descr="Smash up at Vega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92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4" descr="MPj04066980000[1]"/>
          <p:cNvPicPr/>
          <p:nvPr/>
        </p:nvPicPr>
        <p:blipFill>
          <a:blip r:embed="rId1"/>
          <a:stretch/>
        </p:blipFill>
        <p:spPr>
          <a:xfrm>
            <a:off x="2133720" y="266688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Qualitative vs. Quantitative observ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l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descriptiv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cute, fuzzy, tan colored lion has sharp teeth and a long ta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97844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nt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number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500 kg lion has 6 cm long claws at the end of each of its 18 to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49480" y="1600200"/>
            <a:ext cx="3747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095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rbel"/>
              </a:rPr>
              <a:t>Most important scientific tool?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8840" y="1599840"/>
            <a:ext cx="787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R POWERS OF . .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1243080" y="1487520"/>
            <a:ext cx="7041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Observ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324480" y="22096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1523880"/>
            <a:ext cx="77724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sing your senses to describe the world around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These are facts and not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green and slim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It’s totally gro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cored 5 go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He’s the greatest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is greasy and t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tastes fun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 kids wore blue to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is their favorit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Your Senses … Your Friend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41160" y="1600200"/>
            <a:ext cx="78166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ing your sen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ght – color, size, shape, numbers, patterns, movement,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uch – textures (sharp, dull, rough, smooth, fuzzy, hard, soft, wet oily, dr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mell – sweet, rotten, strong, fresh, spicy, minty, like strawber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ar – loud, soft, high, low, quick, long, qui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astes – salty, sour, bitter, sweet (umam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1" name="Picture 4" descr="http://www.branchlawfirm.com/images/toxic_waste.gif"/>
          <p:cNvPicPr/>
          <p:nvPr/>
        </p:nvPicPr>
        <p:blipFill>
          <a:blip r:embed="rId1"/>
          <a:stretch/>
        </p:blipFill>
        <p:spPr>
          <a:xfrm>
            <a:off x="449568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http://simpsonovi.comics.cz/media/Obrazky/Homer/images/HOMER10.JPG"/>
          <p:cNvPicPr/>
          <p:nvPr/>
        </p:nvPicPr>
        <p:blipFill>
          <a:blip r:embed="rId2"/>
          <a:stretch/>
        </p:blipFill>
        <p:spPr>
          <a:xfrm flipH="1">
            <a:off x="2133720" y="2895480"/>
            <a:ext cx="1658880" cy="33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8"/>
          <p:cNvGrpSpPr/>
          <p:nvPr/>
        </p:nvGrpSpPr>
        <p:grpSpPr>
          <a:xfrm>
            <a:off x="3733920" y="1523880"/>
            <a:ext cx="2133360" cy="1417680"/>
            <a:chOff x="3733920" y="1523880"/>
            <a:chExt cx="2133360" cy="1417680"/>
          </a:xfrm>
        </p:grpSpPr>
        <p:sp>
          <p:nvSpPr>
            <p:cNvPr id="574" name="AutoShape 16"/>
            <p:cNvSpPr/>
            <p:nvPr/>
          </p:nvSpPr>
          <p:spPr>
            <a:xfrm>
              <a:off x="3733920" y="1523880"/>
              <a:ext cx="2133360" cy="13716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4038480" y="1752480"/>
              <a:ext cx="1523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h… This liquid is glowing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and slimy and it is leaking from 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ow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etal can.  I also smell i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8800" y="1536840"/>
            <a:ext cx="7826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8800" y="3218040"/>
            <a:ext cx="7826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orbel"/>
            </a:endParaRPr>
          </a:p>
        </p:txBody>
      </p:sp>
      <p:pic>
        <p:nvPicPr>
          <p:cNvPr id="578" name="Picture 2" descr="C:\Users\Anthony\Pictures\2008-09-04 August 2008\August 2008 228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4" descr="Mars.jpg"/>
          <p:cNvPicPr/>
          <p:nvPr/>
        </p:nvPicPr>
        <p:blipFill>
          <a:blip r:embed="rId1"/>
          <a:stretch/>
        </p:blipFill>
        <p:spPr>
          <a:xfrm>
            <a:off x="1523880" y="228600"/>
            <a:ext cx="627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Making Observatio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396216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litative Observ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ing descriptive word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es sense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round h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ten sme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usty brown sca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ttle furry blue pe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1640" y="1600200"/>
            <a:ext cx="434340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ntitative Observa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</a:t>
            </a: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ing numbers to describe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Forms of measurement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 cm ta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k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kp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7:29Z</dcterms:created>
  <dc:creator>Anthony</dc:creator>
  <dc:description/>
  <dc:language>en-US</dc:language>
  <cp:lastModifiedBy>Teacher</cp:lastModifiedBy>
  <dcterms:modified xsi:type="dcterms:W3CDTF">2009-09-02T06:35:00Z</dcterms:modified>
  <cp:revision>6</cp:revision>
  <dc:subject/>
  <dc:title>Slide 1</dc:title>
</cp:coreProperties>
</file>