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B63-756A-4979-86A8-86895D73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D68-67C1-4C29-A538-AFA01873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BCB-89EC-4050-9687-A28C9B03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53C-D32A-468C-8D44-1C7F698B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FDB-D226-4391-BC8D-F44619D4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15A-6F7A-45FB-9C67-6008E829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30B-0ABC-4C18-B9A2-13D33CC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4E5-9376-4805-AADC-0ABA9CC3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5BF-717E-46D3-AE47-9D32881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EA0-0D76-4180-843D-7760C24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891-51DC-4C79-B134-67A12E94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477-5371-4E03-8FA3-4580273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A195-57D4-470B-A2D4-D7A995F3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29000" y="144792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Engravers MT"/>
                <a:ea typeface="Engravers MT"/>
              </a:rPr>
              <a:t>Ma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3519040000[1]"/>
          <p:cNvPicPr/>
          <p:nvPr/>
        </p:nvPicPr>
        <p:blipFill>
          <a:blip r:embed="rId1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343400" y="36576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obo Std"/>
                <a:ea typeface="Hobo Std"/>
              </a:rPr>
              <a:t>A Rather Heavy Matt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4920" y="10666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304920" y="2666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55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64" name="Picture 44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419720" y="83808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– riders -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1024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5321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78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object on the pan of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81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00g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84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10 g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87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 gram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89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2860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Zero the balance by moving all the riders to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457200" y="2133720"/>
            <a:ext cx="8458200" cy="2631960"/>
            <a:chOff x="457200" y="2133720"/>
            <a:chExt cx="8458200" cy="2631960"/>
          </a:xfrm>
        </p:grpSpPr>
        <p:pic>
          <p:nvPicPr>
            <p:cNvPr id="98" name="Picture 22" descr=""/>
            <p:cNvPicPr/>
            <p:nvPr/>
          </p:nvPicPr>
          <p:blipFill>
            <a:blip r:embed="rId1"/>
            <a:stretch/>
          </p:blipFill>
          <p:spPr>
            <a:xfrm>
              <a:off x="457200" y="2133720"/>
              <a:ext cx="318132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4"/>
            <p:cNvSpPr/>
            <p:nvPr/>
          </p:nvSpPr>
          <p:spPr>
            <a:xfrm>
              <a:off x="3733920" y="236196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4191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5334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632448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7620120" y="3733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7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37120" cy="30034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.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489880" cy="3479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048120" y="5715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.5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287360"/>
            <a:ext cx="7391520" cy="3218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2.4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21Z</dcterms:created>
  <dc:creator>Tracy Trimpe</dc:creator>
  <dc:description/>
  <dc:language>en-US</dc:language>
  <cp:lastModifiedBy>Tech Support</cp:lastModifiedBy>
  <dcterms:modified xsi:type="dcterms:W3CDTF">2010-08-24T03:45:19Z</dcterms:modified>
  <cp:revision>25</cp:revision>
  <dc:subject/>
  <dc:title>Slide 1</dc:title>
</cp:coreProperties>
</file>