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5FB-C320-4C49-9E94-4352519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99B-A613-4322-B027-7B81A29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A64-C0A3-47A5-9885-F39C7968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D32-EB37-41F7-B3FB-DF4392B5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1F9-7B40-4118-8814-3D2ACAA3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0A7-00C3-438B-988A-C424014E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688-C6F4-4FFE-9271-3B05B4F3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698-2430-4796-954E-B95AC74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5DB-516B-47B3-9F71-7B6C374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306-4D9F-4BFA-A982-E3615C0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3AB-FEF8-4C9A-AA5F-479B766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3CA-22EE-4351-9137-A768A80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A67F-D012-40CE-A115-7E328985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14479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ngravers MT"/>
                <a:ea typeface="Engravers MT"/>
              </a:rPr>
              <a:t>M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19040000[1]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43400" y="3657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obo Std"/>
                <a:ea typeface="Hobo Std"/>
              </a:rPr>
              <a:t>A Rather Heavy Matt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304920" y="2666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55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64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19720" y="83808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– riders -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32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78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object on the pan of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81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00g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84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10 g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87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 gram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89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Zero the balance by moving all the riders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57200" y="2133720"/>
            <a:ext cx="8458200" cy="2631960"/>
            <a:chOff x="457200" y="2133720"/>
            <a:chExt cx="8458200" cy="2631960"/>
          </a:xfrm>
        </p:grpSpPr>
        <p:pic>
          <p:nvPicPr>
            <p:cNvPr id="98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318132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4"/>
            <p:cNvSpPr/>
            <p:nvPr/>
          </p:nvSpPr>
          <p:spPr>
            <a:xfrm>
              <a:off x="3733920" y="236196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191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334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32448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620120" y="3733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7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3712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89880" cy="347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048120" y="571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.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287360"/>
            <a:ext cx="7391520" cy="3218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21Z</dcterms:created>
  <dc:creator>Tracy Trimpe</dc:creator>
  <dc:description/>
  <dc:language>en-US</dc:language>
  <cp:lastModifiedBy>Tech Support</cp:lastModifiedBy>
  <dcterms:modified xsi:type="dcterms:W3CDTF">2010-08-24T03:45:19Z</dcterms:modified>
  <cp:revision>25</cp:revision>
  <dc:subject/>
  <dc:title>Slide 1</dc:title>
</cp:coreProperties>
</file>