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46E-F667-40AE-8934-D51975EC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CF7-5941-4F81-9803-212536F4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A92-0EAD-4F73-BF03-4ED0169C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E8D-1707-47A2-91B3-D3E1F949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1EA-0A46-42A8-B4AB-0906A1F1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8A1-BE44-4A8B-9B00-12A80EF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F40-A6B2-4CAC-8E7B-DC2D2FB9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F93-652D-4503-A73A-D438131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0EE-042A-468F-A095-93983013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B12-622D-488C-8BDD-9758B19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E73-AF2F-43F0-9EA4-E23F3A4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269-EFFA-4ABF-BD9B-AE76FA41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EFF7-4F69-4B16-9876-6119916BC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29000" y="144792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Engravers MT"/>
                <a:ea typeface="Engravers MT"/>
              </a:rPr>
              <a:t>Ma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3519040000[1]"/>
          <p:cNvPicPr/>
          <p:nvPr/>
        </p:nvPicPr>
        <p:blipFill>
          <a:blip r:embed="rId1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343400" y="36576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obo Std"/>
                <a:ea typeface="Hobo Std"/>
              </a:rPr>
              <a:t>A Rather Heavy Matt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4920" y="10666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304920" y="2666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55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64" name="Picture 44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419720" y="83808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– riders -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1024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5321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78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object on the pan of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81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00g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84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10 g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87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 gram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89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2860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Zero the balance by moving all the riders to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457200" y="2133720"/>
            <a:ext cx="8458200" cy="2631960"/>
            <a:chOff x="457200" y="2133720"/>
            <a:chExt cx="8458200" cy="2631960"/>
          </a:xfrm>
        </p:grpSpPr>
        <p:pic>
          <p:nvPicPr>
            <p:cNvPr id="98" name="Picture 22" descr=""/>
            <p:cNvPicPr/>
            <p:nvPr/>
          </p:nvPicPr>
          <p:blipFill>
            <a:blip r:embed="rId1"/>
            <a:stretch/>
          </p:blipFill>
          <p:spPr>
            <a:xfrm>
              <a:off x="457200" y="2133720"/>
              <a:ext cx="318132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4"/>
            <p:cNvSpPr/>
            <p:nvPr/>
          </p:nvSpPr>
          <p:spPr>
            <a:xfrm>
              <a:off x="3733920" y="236196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4191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5334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632448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7620120" y="3733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7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37120" cy="30034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.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489880" cy="3479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048120" y="5715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.5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287360"/>
            <a:ext cx="7391520" cy="3218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2.4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21Z</dcterms:created>
  <dc:creator>Tracy Trimpe</dc:creator>
  <dc:description/>
  <dc:language>en-US</dc:language>
  <cp:lastModifiedBy>Tech Support</cp:lastModifiedBy>
  <dcterms:modified xsi:type="dcterms:W3CDTF">2010-08-24T03:45:19Z</dcterms:modified>
  <cp:revision>25</cp:revision>
  <dc:subject/>
  <dc:title>Slide 1</dc:title>
</cp:coreProperties>
</file>