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ct" ContentType="image/x-pict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DD7-28C2-40DF-85D6-FB20FD8B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AF1-7CBA-47F2-B960-4B28FFD4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1383-1331-4671-8FDB-BB51E2D9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4C5B-BF48-442E-A46C-973F829B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E2CB-A5FD-476A-8648-752AFC42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4CD5-23D8-46F9-A799-4BB69FFD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D170-E28F-4DCC-B5E3-ED754A41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671A-3320-4B23-8791-14855963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F66-6D6E-40E4-BB06-DF47D185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DDF-E2F8-4FF3-A210-406854FE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6E9A-DFA8-4D96-8965-0205FA3A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E07-6AAF-4B28-85C9-A0068268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A44F-DD71-43CF-991E-9ED86A908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kilogram.wmv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haus.com/products/education/weblab/TBBread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429000" y="1447920"/>
            <a:ext cx="3581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Engravers MT"/>
                <a:ea typeface="Engravers MT"/>
              </a:rPr>
              <a:t>Ma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MCj03519040000[1]"/>
          <p:cNvPicPr/>
          <p:nvPr/>
        </p:nvPicPr>
        <p:blipFill>
          <a:blip r:embed="rId1"/>
          <a:stretch/>
        </p:blipFill>
        <p:spPr>
          <a:xfrm>
            <a:off x="762120" y="3657600"/>
            <a:ext cx="3200400" cy="2585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343400" y="36576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obo Std"/>
                <a:ea typeface="Hobo Std"/>
              </a:rPr>
              <a:t>A Rather Heavy Matte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04920" y="1066680"/>
            <a:ext cx="655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s to the amount of matter in an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mass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7"/>
          <p:cNvSpPr/>
          <p:nvPr/>
        </p:nvSpPr>
        <p:spPr>
          <a:xfrm>
            <a:off x="304920" y="2666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gram (km) = 1000 Grams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Gram (g) = 1000 Milligrams (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28"/>
          <p:cNvSpPr txBox="1"/>
          <p:nvPr/>
        </p:nvSpPr>
        <p:spPr>
          <a:xfrm rot="1551000">
            <a:off x="2603520" y="228240"/>
            <a:ext cx="3506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1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2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33"/>
          <p:cNvSpPr/>
          <p:nvPr/>
        </p:nvSpPr>
        <p:spPr>
          <a:xfrm>
            <a:off x="304920" y="50133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6"/>
          <p:cNvGrpSpPr/>
          <p:nvPr/>
        </p:nvGrpSpPr>
        <p:grpSpPr>
          <a:xfrm>
            <a:off x="685800" y="5470560"/>
            <a:ext cx="7848720" cy="862560"/>
            <a:chOff x="685800" y="5470560"/>
            <a:chExt cx="7848720" cy="862560"/>
          </a:xfrm>
        </p:grpSpPr>
        <p:sp>
          <p:nvSpPr>
            <p:cNvPr id="55" name="Text Box 34"/>
            <p:cNvSpPr/>
            <p:nvPr/>
          </p:nvSpPr>
          <p:spPr>
            <a:xfrm>
              <a:off x="685800" y="547056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kilogram or 1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1200 milligrams or 1 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35"/>
            <p:cNvSpPr/>
            <p:nvPr/>
          </p:nvSpPr>
          <p:spPr>
            <a:xfrm>
              <a:off x="4267080" y="547056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milligrams or 12 kilo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4 kilograms or 4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38"/>
          <p:cNvSpPr/>
          <p:nvPr/>
        </p:nvSpPr>
        <p:spPr>
          <a:xfrm>
            <a:off x="2438280" y="5470560"/>
            <a:ext cx="13716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990720" y="5927760"/>
            <a:ext cx="18288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324480" y="5470560"/>
            <a:ext cx="15368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6134040" y="5940360"/>
            <a:ext cx="137160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2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339408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3"/>
          <p:cNvSpPr/>
          <p:nvPr/>
        </p:nvSpPr>
        <p:spPr>
          <a:xfrm>
            <a:off x="5562720" y="3570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m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6"/>
          <p:cNvGrpSpPr/>
          <p:nvPr/>
        </p:nvGrpSpPr>
        <p:grpSpPr>
          <a:xfrm>
            <a:off x="7162920" y="990720"/>
            <a:ext cx="1676160" cy="1983240"/>
            <a:chOff x="7162920" y="990720"/>
            <a:chExt cx="1676160" cy="1983240"/>
          </a:xfrm>
        </p:grpSpPr>
        <p:pic>
          <p:nvPicPr>
            <p:cNvPr id="64" name="Picture 44" descr=""/>
            <p:cNvPicPr/>
            <p:nvPr/>
          </p:nvPicPr>
          <p:blipFill>
            <a:blip r:embed="rId3"/>
            <a:srcRect l="23944" t="3780" r="23944" b="21556"/>
            <a:stretch/>
          </p:blipFill>
          <p:spPr>
            <a:xfrm>
              <a:off x="7238880" y="990720"/>
              <a:ext cx="15242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45"/>
            <p:cNvSpPr/>
            <p:nvPr/>
          </p:nvSpPr>
          <p:spPr>
            <a:xfrm>
              <a:off x="7162920" y="2666880"/>
              <a:ext cx="167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ilogram Prot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47"/>
          <p:cNvSpPr/>
          <p:nvPr/>
        </p:nvSpPr>
        <p:spPr>
          <a:xfrm>
            <a:off x="1295280" y="6477120"/>
            <a:ext cx="594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ogram Prototype Image - http://en.wikipedia.org/wiki/Kil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6400800"/>
            <a:ext cx="64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southwestscales.com/Ohaus_Triple_Beam_750-SO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419720" y="838080"/>
            <a:ext cx="4419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ple-beam bala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mass of various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jects are placed on the scale and then you move the weights – riders - on the beams until you get the lines on the right-side of the scale to match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3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810240" cy="16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1752480" y="3124080"/>
            <a:ext cx="53215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 – Triple-Beam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057400" y="6324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to try an online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5715000" cy="240984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20"/>
          <p:cNvGrpSpPr/>
          <p:nvPr/>
        </p:nvGrpSpPr>
        <p:grpSpPr>
          <a:xfrm>
            <a:off x="228600" y="1219320"/>
            <a:ext cx="4800600" cy="1980720"/>
            <a:chOff x="228600" y="1219320"/>
            <a:chExt cx="4800600" cy="1980720"/>
          </a:xfrm>
        </p:grpSpPr>
        <p:sp>
          <p:nvSpPr>
            <p:cNvPr id="78" name="Text Box 5"/>
            <p:cNvSpPr/>
            <p:nvPr/>
          </p:nvSpPr>
          <p:spPr>
            <a:xfrm>
              <a:off x="228600" y="121932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Place the object on the pan of the sca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838080" y="1523880"/>
              <a:ext cx="38124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1"/>
          <p:cNvGrpSpPr/>
          <p:nvPr/>
        </p:nvGrpSpPr>
        <p:grpSpPr>
          <a:xfrm>
            <a:off x="1371600" y="1778040"/>
            <a:ext cx="7620120" cy="2108160"/>
            <a:chOff x="1371600" y="1778040"/>
            <a:chExt cx="7620120" cy="2108160"/>
          </a:xfrm>
        </p:grpSpPr>
        <p:sp>
          <p:nvSpPr>
            <p:cNvPr id="81" name="Text Box 9"/>
            <p:cNvSpPr/>
            <p:nvPr/>
          </p:nvSpPr>
          <p:spPr>
            <a:xfrm>
              <a:off x="1371600" y="1778040"/>
              <a:ext cx="762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100g weight to the right until the arm drops below the line.  Move the rider back one groove.  Make sure it “locks” into plac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0"/>
            <p:cNvSpPr/>
            <p:nvPr/>
          </p:nvSpPr>
          <p:spPr>
            <a:xfrm>
              <a:off x="1676520" y="2438280"/>
              <a:ext cx="10666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2"/>
          <p:cNvGrpSpPr/>
          <p:nvPr/>
        </p:nvGrpSpPr>
        <p:grpSpPr>
          <a:xfrm>
            <a:off x="2819520" y="2666880"/>
            <a:ext cx="6019560" cy="914400"/>
            <a:chOff x="2819520" y="2666880"/>
            <a:chExt cx="6019560" cy="914400"/>
          </a:xfrm>
        </p:grpSpPr>
        <p:sp>
          <p:nvSpPr>
            <p:cNvPr id="84" name="Text Box 11"/>
            <p:cNvSpPr/>
            <p:nvPr/>
          </p:nvSpPr>
          <p:spPr>
            <a:xfrm>
              <a:off x="3124080" y="266688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– Repeat this process with the 10 g weight.  When the arm moves below the line, back it up one groo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 flipH="1">
              <a:off x="2819520" y="28954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3"/>
          <p:cNvGrpSpPr/>
          <p:nvPr/>
        </p:nvGrpSpPr>
        <p:grpSpPr>
          <a:xfrm>
            <a:off x="2666520" y="3657600"/>
            <a:ext cx="6248880" cy="1313640"/>
            <a:chOff x="2666520" y="3657600"/>
            <a:chExt cx="6248880" cy="1313640"/>
          </a:xfrm>
        </p:grpSpPr>
        <p:sp>
          <p:nvSpPr>
            <p:cNvPr id="87" name="Text Box 13"/>
            <p:cNvSpPr/>
            <p:nvPr/>
          </p:nvSpPr>
          <p:spPr>
            <a:xfrm>
              <a:off x="6248520" y="3657600"/>
              <a:ext cx="2666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1 gram weight on the front beam until the lines match up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17"/>
            <p:cNvGrpSpPr/>
            <p:nvPr/>
          </p:nvGrpSpPr>
          <p:grpSpPr>
            <a:xfrm>
              <a:off x="2666520" y="4114800"/>
              <a:ext cx="3582000" cy="457200"/>
              <a:chOff x="2666520" y="4114800"/>
              <a:chExt cx="3582000" cy="457200"/>
            </a:xfrm>
          </p:grpSpPr>
          <p:sp>
            <p:nvSpPr>
              <p:cNvPr id="89" name="Line 15"/>
              <p:cNvSpPr/>
              <p:nvPr/>
            </p:nvSpPr>
            <p:spPr>
              <a:xfrm flipH="1" flipV="1">
                <a:off x="2666520" y="4114800"/>
                <a:ext cx="2286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6"/>
              <p:cNvSpPr/>
              <p:nvPr/>
            </p:nvSpPr>
            <p:spPr>
              <a:xfrm>
                <a:off x="2895480" y="4572000"/>
                <a:ext cx="33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Oval 18"/>
            <p:cNvSpPr/>
            <p:nvPr/>
          </p:nvSpPr>
          <p:spPr>
            <a:xfrm>
              <a:off x="5257800" y="3657600"/>
              <a:ext cx="609480" cy="457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19"/>
          <p:cNvSpPr/>
          <p:nvPr/>
        </p:nvSpPr>
        <p:spPr>
          <a:xfrm>
            <a:off x="228600" y="56386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– Add the amounts on each beam to find the total mass to the nearest tenth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28600" y="838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Zero the balance by moving all the riders to the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447920" y="6400800"/>
            <a:ext cx="64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http://www.regentsprep.org/Regents/biology/units/laboratory/graphics/triplebeambalan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457200" y="2133720"/>
            <a:ext cx="8458200" cy="2631960"/>
            <a:chOff x="457200" y="2133720"/>
            <a:chExt cx="8458200" cy="2631960"/>
          </a:xfrm>
        </p:grpSpPr>
        <p:pic>
          <p:nvPicPr>
            <p:cNvPr id="98" name="Picture 22" descr=""/>
            <p:cNvPicPr/>
            <p:nvPr/>
          </p:nvPicPr>
          <p:blipFill>
            <a:blip r:embed="rId1"/>
            <a:stretch/>
          </p:blipFill>
          <p:spPr>
            <a:xfrm>
              <a:off x="457200" y="2133720"/>
              <a:ext cx="3181320" cy="26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24"/>
            <p:cNvSpPr/>
            <p:nvPr/>
          </p:nvSpPr>
          <p:spPr>
            <a:xfrm>
              <a:off x="3733920" y="2361960"/>
              <a:ext cx="5181480" cy="22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ce you have balanced the scale, you add up the amounts on each beam to find the total mass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would be the mass of the object measured in the picture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_______ + ______ + _______ = ________ 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0"/>
          <p:cNvSpPr/>
          <p:nvPr/>
        </p:nvSpPr>
        <p:spPr>
          <a:xfrm>
            <a:off x="4191120" y="37339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5334120" y="37339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6324480" y="37339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7620120" y="37339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73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937120" cy="30034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3124080" y="51814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.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489880" cy="3479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3048120" y="5715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16.5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09480" y="1287360"/>
            <a:ext cx="7391520" cy="32180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3124080" y="51814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2.4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1:59:21Z</dcterms:created>
  <dc:creator>Tracy Trimpe</dc:creator>
  <dc:description/>
  <dc:language>en-US</dc:language>
  <cp:lastModifiedBy>Tech Support</cp:lastModifiedBy>
  <dcterms:modified xsi:type="dcterms:W3CDTF">2010-08-24T03:45:19Z</dcterms:modified>
  <cp:revision>25</cp:revision>
  <dc:subject/>
  <dc:title>Slide 1</dc:title>
</cp:coreProperties>
</file>