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5B7-F5CD-4FD3-B927-96294265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EAD-A5AB-4B20-A374-22968749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C07-4119-404F-90BE-8EF206D5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2C2-192F-4832-89A7-C9E1D0FD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306-4779-4395-B4D0-985CB67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EAE-4A87-444A-BF02-0A49B89B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5F3-D3A2-4263-B279-DC5FECED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F28-4B0C-4631-B775-CEDDE8C2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DCC-D490-4A97-B1AA-72B49FEB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CA3-20F5-4E86-A4F3-4F9BB170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D42-7C6C-4932-8232-4EE1DC54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DBC-FB61-4550-AB69-34FA6C02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35E0-9EE1-403B-A1AD-52ED9244E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apt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2327230000[1]"/>
          <p:cNvPicPr/>
          <p:nvPr/>
        </p:nvPicPr>
        <p:blipFill>
          <a:blip r:embed="rId1"/>
          <a:stretch/>
        </p:blipFill>
        <p:spPr>
          <a:xfrm>
            <a:off x="533520" y="423540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6" descr=""/>
          <p:cNvPicPr/>
          <p:nvPr/>
        </p:nvPicPr>
        <p:blipFill>
          <a:blip r:embed="rId2"/>
          <a:stretch/>
        </p:blipFill>
        <p:spPr>
          <a:xfrm>
            <a:off x="603360" y="378000"/>
            <a:ext cx="81626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49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0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4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8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59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0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3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4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8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8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3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2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4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8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0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is a measure of the size of the surface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area of a rectangle, you need to measure the length and the 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the following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length x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s for area are squared, such as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rea of a city that is 125.55 kilometers long by 8.25 kilometers w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= 125.55 km x 8.25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35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09Z</dcterms:created>
  <dc:creator>Tracy Trimpe</dc:creator>
  <dc:description/>
  <dc:language>en-US</dc:language>
  <cp:lastModifiedBy>Tech Support</cp:lastModifiedBy>
  <dcterms:modified xsi:type="dcterms:W3CDTF">2010-08-18T05:26:26Z</dcterms:modified>
  <cp:revision>15</cp:revision>
  <dc:subject/>
  <dc:title>Slide 1</dc:title>
</cp:coreProperties>
</file>