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38E9-0123-4BEF-AC73-AEF3BE476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C9F8-25D8-4086-BDA5-95340FB0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6A23-8A18-40D3-A9A3-18ACA05B6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36F6-5F5D-4779-B90F-68068FBDB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C301-E300-4FEB-9539-CE5CBF31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206C-8E0A-4D97-9AC1-AD0D65EC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E36B-4F59-440F-935C-9EAC1995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E5EB-869B-453E-8D3A-1E33569E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D573-A277-4E33-B4F4-B3D98C07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90CA-5DC1-486E-8983-0174F87E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9B62-A8F0-41F5-809E-68BEBE74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0573-927E-4303-836B-42375D19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6AFF-8F90-4681-8699-3B34792B63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8</a:t>
            </a:r>
            <a:r>
              <a:rPr b="0" lang="en-US" sz="4000" spc="-1" strike="noStrike" baseline="30000">
                <a:solidFill>
                  <a:srgbClr val="e3ebf1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Grade Science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Chemistry Concepts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 is for Electron!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side the nucleus ar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egativel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ged particles called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found in regions called electron clou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orbit the nucleus, but not in definite path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is so small it is considered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electron energy level"/>
          <p:cNvPicPr/>
          <p:nvPr/>
        </p:nvPicPr>
        <p:blipFill>
          <a:blip r:embed="rId1"/>
          <a:stretch/>
        </p:blipFill>
        <p:spPr>
          <a:xfrm>
            <a:off x="2209680" y="15238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69" name="Line 3"/>
          <p:cNvSpPr/>
          <p:nvPr/>
        </p:nvSpPr>
        <p:spPr>
          <a:xfrm flipV="1">
            <a:off x="2514600" y="3428640"/>
            <a:ext cx="762120" cy="6094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761400" y="3962520"/>
            <a:ext cx="48531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carry a negative 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5"/>
          <p:cNvSpPr/>
          <p:nvPr/>
        </p:nvSpPr>
        <p:spPr>
          <a:xfrm flipH="1">
            <a:off x="4647960" y="1676520"/>
            <a:ext cx="1523880" cy="14475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6385320" y="1006560"/>
            <a:ext cx="191988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ucl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t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-posi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4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eu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-neut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40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4" name="Content Placeholder 4" descr="Picture 2.png"/>
          <p:cNvPicPr/>
          <p:nvPr/>
        </p:nvPicPr>
        <p:blipFill>
          <a:blip r:embed="rId1"/>
          <a:srcRect l="-14514" t="0" r="-14514" b="0"/>
          <a:stretch/>
        </p:blipFill>
        <p:spPr>
          <a:xfrm>
            <a:off x="-762120" y="503280"/>
            <a:ext cx="1072368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lectrons, Protons, &amp; Neutrons: Why are they important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an atom tells you wh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le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t is: carbon, silicon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 element has is calle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tomic numb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le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as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uniqu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proton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ydrogen 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proton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rbon    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 proton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itrogen   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 proton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xygen    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lectrons, Protons, &amp; Neutrons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y are they important?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0" name="Picture 3" descr="fig12"/>
          <p:cNvPicPr/>
          <p:nvPr/>
        </p:nvPicPr>
        <p:blipFill>
          <a:blip r:embed="rId1"/>
          <a:srcRect l="0" t="-58701" r="0" b="-58701"/>
          <a:stretch/>
        </p:blipFill>
        <p:spPr>
          <a:xfrm>
            <a:off x="4724280" y="1173240"/>
            <a:ext cx="4419720" cy="4952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304560" y="1523520"/>
            <a:ext cx="4343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ms of the same element (same number of protons) may have different numbers of neu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atoms are known a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sotop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share similar chemical and physical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at least 2760 naturally occurring isotopes; tin has 38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3" name="Content Placeholder 3" descr="Picture 3.png"/>
          <p:cNvPicPr/>
          <p:nvPr/>
        </p:nvPicPr>
        <p:blipFill>
          <a:blip r:embed="rId1"/>
          <a:srcRect l="0" t="-20478" r="0" b="-20478"/>
          <a:stretch/>
        </p:blipFill>
        <p:spPr>
          <a:xfrm>
            <a:off x="304920" y="1341360"/>
            <a:ext cx="86454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lectrons, Protons, &amp; Neutrons: Why are they important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eutr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ke up most of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an atom.  This combined mass is calle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ss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verage of the masses of all naturally occurring isotopes is calle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tomic ma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lectrons, Protons, &amp; Neutrons: Why are they important?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lectr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an atom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qu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the number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, overall atoms have no net charge – they a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eutr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tom that i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eutral is called a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ion (cation) = more protons than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ative ion (anion) = more electrons than pro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et the force be with you!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s that have the same charge repel each other, while objects with opposite charges attract each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due to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lectromagnetic for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lectromagnetic force keeps electrons around the nucleus because they are attracted to the protons (opposites attract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trong for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vercomes the electromagnetic force and keeps protons in the nucleus close toge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3ebf1"/>
                </a:solidFill>
                <a:uFillTx/>
                <a:latin typeface="Arial"/>
              </a:rPr>
              <a:t>Objectives</a:t>
            </a: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 the charge, location and relative mass of protons, neutrons, and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number of particles in an atom using the atomic number, mass number, and overall char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atomic mass of el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9" descr="neon_advertisement_5.jpg"/>
          <p:cNvPicPr/>
          <p:nvPr/>
        </p:nvPicPr>
        <p:blipFill>
          <a:blip r:embed="rId1"/>
          <a:srcRect l="0" t="-6022" r="0" b="-6022"/>
          <a:stretch/>
        </p:blipFill>
        <p:spPr>
          <a:xfrm>
            <a:off x="4116240" y="533520"/>
            <a:ext cx="3122640" cy="3498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57200" y="52574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s a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ur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stances th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annot be broken dow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to simpler chemical substa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5" descr="Frog2"/>
          <p:cNvPicPr/>
          <p:nvPr/>
        </p:nvPicPr>
        <p:blipFill>
          <a:blip r:embed="rId2"/>
          <a:stretch/>
        </p:blipFill>
        <p:spPr>
          <a:xfrm>
            <a:off x="152280" y="1600200"/>
            <a:ext cx="4114800" cy="327816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10" descr="skillet.jpg"/>
          <p:cNvPicPr/>
          <p:nvPr/>
        </p:nvPicPr>
        <p:blipFill>
          <a:blip r:embed="rId3"/>
          <a:srcRect l="0" t="-6026" r="0" b="-6026"/>
          <a:stretch/>
        </p:blipFill>
        <p:spPr>
          <a:xfrm>
            <a:off x="6324480" y="2590920"/>
            <a:ext cx="2667240" cy="2989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ubstances are composed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lements</a:t>
            </a:r>
            <a:br>
              <a:rPr sz="3200"/>
            </a:b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’s the Matter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mallest particle that an element can be broken down into and still be that element is called a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are the building blocks of all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ter i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yth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has mass and vol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cannot be seen – even with a microscope!  They average about 300/1,000,000 cm in diame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ould take 50,000 aluminum atoms to equal the thickness of sheet of foil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Electron Cloud-nucleus"/>
          <p:cNvPicPr/>
          <p:nvPr/>
        </p:nvPicPr>
        <p:blipFill>
          <a:blip r:embed="rId1"/>
          <a:stretch/>
        </p:blipFill>
        <p:spPr>
          <a:xfrm>
            <a:off x="2133720" y="7621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tomic Structur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42667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tom has a small positively charged center surrounded by a large region with negatively charged parti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tomic Structur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tom is made up of three main smaller particles call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ubatomic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protons, neutrons, and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of these has a specific location, charge and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tomic Structur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3712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enter of an atom is called the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nucle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ide the nucleus are two types of subatomic particles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ot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cleus makes up 99% of an atoms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/100,000 the diameter of the 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3" descr="Electron Cloud-nucleus"/>
          <p:cNvPicPr/>
          <p:nvPr/>
        </p:nvPicPr>
        <p:blipFill>
          <a:blip r:embed="rId1"/>
          <a:srcRect l="0" t="-24706" r="0" b="-24706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cxnSp>
        <p:nvCxnSpPr>
          <p:cNvPr id="60" name="Straight Arrow Connector 10"/>
          <p:cNvCxnSpPr/>
          <p:nvPr/>
        </p:nvCxnSpPr>
        <p:spPr>
          <a:xfrm flipH="1" flipV="1">
            <a:off x="6857280" y="4190760"/>
            <a:ext cx="686520" cy="175320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61" name="TextBox 11"/>
          <p:cNvSpPr/>
          <p:nvPr/>
        </p:nvSpPr>
        <p:spPr>
          <a:xfrm>
            <a:off x="5410080" y="5638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ucle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 For Positive!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ns ar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ositivel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ged particles in the nucle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protons are identical to each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of a proton = 1.7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2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= 1 atomic mass unit (am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of three smaller particles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quark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 Is For Neutral!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trons  are particles in the nucleus of an atom that have no charge (neutr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neutrons are identic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of a neutron = 1 a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of three smaller particles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quark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01:52:52Z</dcterms:created>
  <dc:creator>rrrr</dc:creator>
  <dc:description/>
  <dc:language>en-US</dc:language>
  <cp:lastModifiedBy>Teacher</cp:lastModifiedBy>
  <dcterms:modified xsi:type="dcterms:W3CDTF">2009-08-23T09:34:36Z</dcterms:modified>
  <cp:revision>19</cp:revision>
  <dc:subject/>
  <dc:title>Honors Biology 16 October, 2006</dc:title>
</cp:coreProperties>
</file>