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F16-A09E-4927-9409-C8462DCF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5F4-30D9-489F-B8A7-4EE40BAE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F2A-EC64-4F44-A062-F3E89347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CFD-DF73-4403-98AA-D251FB52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CD8-961B-4C94-A4BF-CEC23080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69B-A7C7-4E25-A09C-09162213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B58-30E8-4E74-A92D-57BE50B7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DD5-0108-4BF4-94C7-B7699B7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FED-9D96-443A-9389-6934B55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049-DF43-4039-B8C8-5378C4A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D90-475B-4C38-A891-72DAAC5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6F9-F551-4446-BD3D-59F4EC4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0AA8-DC1F-4403-A979-25400CD0FF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Grade Scienc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hemistry Concept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 is for Electron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the nucleu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calle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ound in regions called electron clo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rbit the nucleus, but not in definite pa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so small it is considered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lectron energy level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Line 3"/>
          <p:cNvSpPr/>
          <p:nvPr/>
        </p:nvSpPr>
        <p:spPr>
          <a:xfrm flipV="1">
            <a:off x="2514600" y="3428640"/>
            <a:ext cx="76212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1400" y="3962520"/>
            <a:ext cx="4853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carry a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647960" y="1676520"/>
            <a:ext cx="1523880" cy="1447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85320" y="1006560"/>
            <a:ext cx="19198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Content Placeholder 4" descr="Picture 2.png"/>
          <p:cNvPicPr/>
          <p:nvPr/>
        </p:nvPicPr>
        <p:blipFill>
          <a:blip r:embed="rId1"/>
          <a:srcRect l="-14514" t="0" r="-14514" b="0"/>
          <a:stretch/>
        </p:blipFill>
        <p:spPr>
          <a:xfrm>
            <a:off x="-762120" y="503280"/>
            <a:ext cx="107236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tells you w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: carbon, silic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element ha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roton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bon    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itrogen  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xygen   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3" descr="fig12"/>
          <p:cNvPicPr/>
          <p:nvPr/>
        </p:nvPicPr>
        <p:blipFill>
          <a:blip r:embed="rId1"/>
          <a:srcRect l="0" t="-58701" r="0" b="-58701"/>
          <a:stretch/>
        </p:blipFill>
        <p:spPr>
          <a:xfrm>
            <a:off x="4724280" y="1173240"/>
            <a:ext cx="441972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0456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he same element (same number of protons) may have different numbers of neu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toms are known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share similar chemical and phys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t least 2760 naturally occurring isotopes; tin has 38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3" name="Content Placeholder 3" descr="Picture 3.png"/>
          <p:cNvPicPr/>
          <p:nvPr/>
        </p:nvPicPr>
        <p:blipFill>
          <a:blip r:embed="rId1"/>
          <a:srcRect l="0" t="-20478" r="0" b="-20478"/>
          <a:stretch/>
        </p:blipFill>
        <p:spPr>
          <a:xfrm>
            <a:off x="304920" y="1341360"/>
            <a:ext cx="8645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up most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n atom.  This combined mas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of the masses of all naturally occurring isotope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qu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overall atoms have no net charge – they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tha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utral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on (cation) = more protons than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on (anion) = more electrons than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he force be with you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 that have the same charge repel each other, while objects with opposite charg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ue 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magnetic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magnetic force keeps electrons around the nucleus because they are attracted to the protons (opposites attrac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ong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vercomes the electromagnetic force and keeps protons in the nucleus clos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ebf1"/>
                </a:solidFill>
                <a:uFillTx/>
                <a:latin typeface="Arial"/>
              </a:rPr>
              <a:t>Objectives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charge, location and relative mass of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particles in an atom using the atomic number, mass number, and overall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neon_advertisement_5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116240" y="533520"/>
            <a:ext cx="3122640" cy="349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not be broken d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simpler chemical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Frog2"/>
          <p:cNvPicPr/>
          <p:nvPr/>
        </p:nvPicPr>
        <p:blipFill>
          <a:blip r:embed="rId2"/>
          <a:stretch/>
        </p:blipFill>
        <p:spPr>
          <a:xfrm>
            <a:off x="152280" y="1600200"/>
            <a:ext cx="4114800" cy="32781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10" descr="skillet.jpg"/>
          <p:cNvPicPr/>
          <p:nvPr/>
        </p:nvPicPr>
        <p:blipFill>
          <a:blip r:embed="rId3"/>
          <a:srcRect l="0" t="-6026" r="0" b="-6026"/>
          <a:stretch/>
        </p:blipFill>
        <p:spPr>
          <a:xfrm>
            <a:off x="6324480" y="2590920"/>
            <a:ext cx="2667240" cy="298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composed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br>
              <a:rPr sz="3200"/>
            </a:b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’s the Matt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llest particle that an element can be broken down into and still be that element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the building blocks of all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has mass an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not be seen – even with a microscope!  They average about 300/1,000,000 cm in di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50,000 aluminum atoms to equal the thickness of sheet of foil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lectron Cloud-nucleus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has a small positively charged center surrounded by a large region with negatively charged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is made up of three main smaller particle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batom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se has a specific location, charge and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nter of an atom is called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the nucleus are two types of subatomic particle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makes up 99% of an atoms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100,000 the diameter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Electron Cloud-nucleus"/>
          <p:cNvPicPr/>
          <p:nvPr/>
        </p:nvPicPr>
        <p:blipFill>
          <a:blip r:embed="rId1"/>
          <a:srcRect l="0" t="-24706" r="0" b="-2470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10"/>
          <p:cNvCxnSpPr/>
          <p:nvPr/>
        </p:nvCxnSpPr>
        <p:spPr>
          <a:xfrm flipH="1" flipV="1">
            <a:off x="6857280" y="4190760"/>
            <a:ext cx="686520" cy="17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1" name="TextBox 11"/>
          <p:cNvSpPr/>
          <p:nvPr/>
        </p:nvSpPr>
        <p:spPr>
          <a:xfrm>
            <a:off x="54100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 For Positive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si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in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tons are identical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proton = 1.7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1 atomic mass unit 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 Is For Neutral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s  are particles in the nucleus of an atom that have no charge (neut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eutrons are iden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neutron = 1 a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1:52:52Z</dcterms:created>
  <dc:creator>rrrr</dc:creator>
  <dc:description/>
  <dc:language>en-US</dc:language>
  <cp:lastModifiedBy>Teacher</cp:lastModifiedBy>
  <dcterms:modified xsi:type="dcterms:W3CDTF">2009-08-23T09:34:36Z</dcterms:modified>
  <cp:revision>19</cp:revision>
  <dc:subject/>
  <dc:title>Honors Biology 16 October, 2006</dc:title>
</cp:coreProperties>
</file>