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B7F3-C444-49E4-926B-70607B6A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836-3DF0-4223-847F-C63584C8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C02B-87D5-4B38-9CF8-E8292458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00B-5093-469D-9BC8-D7FCDDAC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0FA0-5A9D-47AA-947C-4A7F32A6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64A-01EE-4007-A2B4-F69C12FD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298B-28EC-4BC5-8730-E78993AF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0D7D-29A9-40EF-8808-7E52EC00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164-8171-4C4B-B3AF-D7B51874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0E8-26BA-4886-9781-50B2A9F7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95D9-5B9F-42D6-BDCD-B39CBA95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28F9-B98E-475E-AF5D-26330132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BF27-7992-48F0-8A61-CD0599403A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8</a:t>
            </a:r>
            <a:r>
              <a:rPr b="0" lang="en-US" sz="4000" spc="-1" strike="noStrike" baseline="30000">
                <a:solidFill>
                  <a:srgbClr val="e3ebf1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Grade Science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hemistry Concepts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 is for Electron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side the nucleus a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egative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d particles calle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found in regions called electron clou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orbit the nucleus, but not in definite pa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is so small it is considered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lectron energy level"/>
          <p:cNvPicPr/>
          <p:nvPr/>
        </p:nvPicPr>
        <p:blipFill>
          <a:blip r:embed="rId1"/>
          <a:stretch/>
        </p:blipFill>
        <p:spPr>
          <a:xfrm>
            <a:off x="2209680" y="15238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Line 3"/>
          <p:cNvSpPr/>
          <p:nvPr/>
        </p:nvSpPr>
        <p:spPr>
          <a:xfrm flipV="1">
            <a:off x="2514600" y="3428640"/>
            <a:ext cx="762120" cy="609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1400" y="3962520"/>
            <a:ext cx="48531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carry a negative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 flipH="1">
            <a:off x="4647960" y="1676520"/>
            <a:ext cx="1523880" cy="14475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385320" y="1006560"/>
            <a:ext cx="19198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Content Placeholder 4" descr="Picture 2.png"/>
          <p:cNvPicPr/>
          <p:nvPr/>
        </p:nvPicPr>
        <p:blipFill>
          <a:blip r:embed="rId1"/>
          <a:srcRect l="-14514" t="0" r="-14514" b="0"/>
          <a:stretch/>
        </p:blipFill>
        <p:spPr>
          <a:xfrm>
            <a:off x="-762120" y="503280"/>
            <a:ext cx="1072368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ectrons, Protons, &amp; Neutrons: Why are they important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n atom tells you w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s: carbon, silico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 element has is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omic n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niqu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proton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ydrogen 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roto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rbon    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proto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itrogen   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proto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xygen    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ectrons, Protons, &amp; Neutron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are they important?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0" name="Picture 3" descr="fig12"/>
          <p:cNvPicPr/>
          <p:nvPr/>
        </p:nvPicPr>
        <p:blipFill>
          <a:blip r:embed="rId1"/>
          <a:srcRect l="0" t="-58701" r="0" b="-58701"/>
          <a:stretch/>
        </p:blipFill>
        <p:spPr>
          <a:xfrm>
            <a:off x="4724280" y="1173240"/>
            <a:ext cx="4419720" cy="4952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304560" y="15235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of the same element (same number of protons) may have different numbers of neu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toms are known 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otop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share similar chemical and physical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t least 2760 naturally occurring isotopes; tin has 38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3" name="Content Placeholder 3" descr="Picture 3.png"/>
          <p:cNvPicPr/>
          <p:nvPr/>
        </p:nvPicPr>
        <p:blipFill>
          <a:blip r:embed="rId1"/>
          <a:srcRect l="0" t="-20478" r="0" b="-20478"/>
          <a:stretch/>
        </p:blipFill>
        <p:spPr>
          <a:xfrm>
            <a:off x="304920" y="1341360"/>
            <a:ext cx="86454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ectrons, Protons, &amp; Neutrons: Why are they important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ke up most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n atom.  This combined mass is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ss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verage of the masses of all naturally occurring isotopes is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omic ma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ectrons, Protons, &amp; Neutrons: Why are they important?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n atom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qu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the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overall atoms have no net charge – they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utr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tom that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eutral is called 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ion (cation) = more protons than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ion (anion) = more electrons than pro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t the force be with you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s that have the same charge repel each other, while objects with opposite charges attract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due to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ctromagnetic for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ectromagnetic force keeps electrons around the nucleus because they are attracted to the protons (opposites attrac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rong for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vercomes the electromagnetic force and keeps protons in the nucleus close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3ebf1"/>
                </a:solidFill>
                <a:uFillTx/>
                <a:latin typeface="Arial"/>
              </a:rPr>
              <a:t>Objectives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he charge, location and relative mass of protons, neutrons, an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number of particles in an atom using the atomic number, mass number, and overall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atomic mass of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9" descr="neon_advertisement_5.jpg"/>
          <p:cNvPicPr/>
          <p:nvPr/>
        </p:nvPicPr>
        <p:blipFill>
          <a:blip r:embed="rId1"/>
          <a:srcRect l="0" t="-6022" r="0" b="-6022"/>
          <a:stretch/>
        </p:blipFill>
        <p:spPr>
          <a:xfrm>
            <a:off x="4116240" y="533520"/>
            <a:ext cx="3122640" cy="349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5257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ces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annot be broken do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o simpler chemical sub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Frog2"/>
          <p:cNvPicPr/>
          <p:nvPr/>
        </p:nvPicPr>
        <p:blipFill>
          <a:blip r:embed="rId2"/>
          <a:stretch/>
        </p:blipFill>
        <p:spPr>
          <a:xfrm>
            <a:off x="152280" y="1600200"/>
            <a:ext cx="4114800" cy="327816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10" descr="skillet.jpg"/>
          <p:cNvPicPr/>
          <p:nvPr/>
        </p:nvPicPr>
        <p:blipFill>
          <a:blip r:embed="rId3"/>
          <a:srcRect l="0" t="-6026" r="0" b="-6026"/>
          <a:stretch/>
        </p:blipFill>
        <p:spPr>
          <a:xfrm>
            <a:off x="6324480" y="2590920"/>
            <a:ext cx="2667240" cy="2989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bstances are composed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lements</a:t>
            </a:r>
            <a:br>
              <a:rPr sz="3200"/>
            </a:b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’s the Matter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mallest particle that an element can be broken down into and still be that element is called 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the building blocks of all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er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yth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has mass and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cannot be seen – even with a microscope!  They average about 300/1,000,000 cm in diame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take 50,000 aluminum atoms to equal the thickness of sheet of foil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Electron Cloud-nucleus"/>
          <p:cNvPicPr/>
          <p:nvPr/>
        </p:nvPicPr>
        <p:blipFill>
          <a:blip r:embed="rId1"/>
          <a:stretch/>
        </p:blipFill>
        <p:spPr>
          <a:xfrm>
            <a:off x="2133720" y="762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4266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tom has a small positively charged center surrounded by a large region with negatively charged part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tom is made up of three main smaller particles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batomic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protons, neutrons, and elec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of these has a specific location, charge and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3712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enter of an atom is called th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ide the nucleus are two types of subatomic particles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t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 makes up 99% of an atoms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/100,000 the diameter of the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Electron Cloud-nucleus"/>
          <p:cNvPicPr/>
          <p:nvPr/>
        </p:nvPicPr>
        <p:blipFill>
          <a:blip r:embed="rId1"/>
          <a:srcRect l="0" t="-24706" r="0" b="-24706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cxnSp>
        <p:nvCxnSpPr>
          <p:cNvPr id="60" name="Straight Arrow Connector 10"/>
          <p:cNvCxnSpPr/>
          <p:nvPr/>
        </p:nvCxnSpPr>
        <p:spPr>
          <a:xfrm flipH="1" flipV="1">
            <a:off x="6857280" y="4190760"/>
            <a:ext cx="686520" cy="17532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1" name="TextBox 11"/>
          <p:cNvSpPr/>
          <p:nvPr/>
        </p:nvSpPr>
        <p:spPr>
          <a:xfrm>
            <a:off x="5410080" y="5638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ucle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 For Positive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s a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sitive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d particles in 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rotons are identical to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of a proton = 1.7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= 1 atomic mass unit (am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three smaller particle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rk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 Is For Neutral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ons  are particles in the nucleus of an atom that have no charge (neut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neutrons are identic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of a neutron = 1 a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three smaller particle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rk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1:52:52Z</dcterms:created>
  <dc:creator>rrrr</dc:creator>
  <dc:description/>
  <dc:language>en-US</dc:language>
  <cp:lastModifiedBy>Teacher</cp:lastModifiedBy>
  <dcterms:modified xsi:type="dcterms:W3CDTF">2009-08-23T09:34:36Z</dcterms:modified>
  <cp:revision>19</cp:revision>
  <dc:subject/>
  <dc:title>Honors Biology 16 October, 2006</dc:title>
</cp:coreProperties>
</file>