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6609-9BDD-4A1E-948E-5764F483E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51A3-D634-4C01-B2A0-93199732A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7CAA-AC64-4C41-A544-028B5E10D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A38E-D9DF-48F3-BE47-D3B8BF127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529B-565C-474B-B0A9-0F3FC1545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D08C-8DC8-4F3C-9647-941A15A4C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2DA3-CFB6-4834-994D-D3397E542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516C-02D0-4B8A-97E2-9C807A46E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CDA3-1216-4BF4-A2BD-131ED7DCB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0826-1964-4BE8-B698-0DDB3FE1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6E62-9FAC-45CE-AD9A-B061FB5C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E864-CA62-4E40-A82E-7692FC6F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EAEF-4DD8-4F91-BDE5-0BEAD2D1D37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8</a:t>
            </a:r>
            <a:r>
              <a:rPr b="0" lang="en-US" sz="4000" spc="-1" strike="noStrike" baseline="30000">
                <a:solidFill>
                  <a:srgbClr val="e3ebf1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Grade Science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Chemistry Concepts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 is for Electron!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side the nucleus ar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egatively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ged particles called elec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are found in regions called electron clou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orbit the nucleus, but not in definite path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s is so small it is considered z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electron energy level"/>
          <p:cNvPicPr/>
          <p:nvPr/>
        </p:nvPicPr>
        <p:blipFill>
          <a:blip r:embed="rId1"/>
          <a:stretch/>
        </p:blipFill>
        <p:spPr>
          <a:xfrm>
            <a:off x="2209680" y="15238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69" name="Line 3"/>
          <p:cNvSpPr/>
          <p:nvPr/>
        </p:nvSpPr>
        <p:spPr>
          <a:xfrm flipV="1">
            <a:off x="2514600" y="3428640"/>
            <a:ext cx="762120" cy="6094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761400" y="3962520"/>
            <a:ext cx="485316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lect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-carry a negative char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Line 5"/>
          <p:cNvSpPr/>
          <p:nvPr/>
        </p:nvSpPr>
        <p:spPr>
          <a:xfrm flipH="1">
            <a:off x="4647960" y="1676520"/>
            <a:ext cx="1523880" cy="144756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6385320" y="1006560"/>
            <a:ext cx="191988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ucle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ta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ot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-posi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4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eut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-neut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4000" spc="-1" strike="noStrike" baseline="30000">
                <a:solidFill>
                  <a:srgbClr val="ffff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4" name="Content Placeholder 4" descr="Picture 2.png"/>
          <p:cNvPicPr/>
          <p:nvPr/>
        </p:nvPicPr>
        <p:blipFill>
          <a:blip r:embed="rId1"/>
          <a:srcRect l="-14514" t="0" r="-14514" b="0"/>
          <a:stretch/>
        </p:blipFill>
        <p:spPr>
          <a:xfrm>
            <a:off x="-762120" y="503280"/>
            <a:ext cx="10723680" cy="58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lectrons, Protons, &amp; Neutrons: Why are they important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umber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ot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an atom tells you wha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lem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t is: carbon, silicon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umber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ot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 element has is called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tomic numb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lem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as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uniqu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ot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proton  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ydrogen 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 protons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arbon    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 protons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itrogen   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 protons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xygen    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lectrons, Protons, &amp; Neutrons: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y are they important?</a:t>
            </a:r>
            <a:endParaRPr b="0" lang="en-US" sz="36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80" name="Picture 3" descr="fig12"/>
          <p:cNvPicPr/>
          <p:nvPr/>
        </p:nvPicPr>
        <p:blipFill>
          <a:blip r:embed="rId1"/>
          <a:srcRect l="0" t="-58701" r="0" b="-58701"/>
          <a:stretch/>
        </p:blipFill>
        <p:spPr>
          <a:xfrm>
            <a:off x="4724280" y="1173240"/>
            <a:ext cx="4419720" cy="4952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304560" y="1523520"/>
            <a:ext cx="4343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oms of the same element (same number of protons) may have different numbers of neutr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atoms are known a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sotop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and share similar chemical and physical proper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at least 2760 naturally occurring isotopes; tin has 38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83" name="Content Placeholder 3" descr="Picture 3.png"/>
          <p:cNvPicPr/>
          <p:nvPr/>
        </p:nvPicPr>
        <p:blipFill>
          <a:blip r:embed="rId1"/>
          <a:srcRect l="0" t="-20478" r="0" b="-20478"/>
          <a:stretch/>
        </p:blipFill>
        <p:spPr>
          <a:xfrm>
            <a:off x="304920" y="1341360"/>
            <a:ext cx="864540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lectrons, Protons, &amp; Neutrons: Why are they important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eutr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ot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ake up most of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as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an atom.  This combined mass is called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ass numb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verage of the masses of all naturally occurring isotopes is called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tomic mas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lectrons, Protons, &amp; Neutrons: Why are they important?</a:t>
            </a:r>
            <a:endParaRPr b="0" lang="en-US" sz="3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umber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lectr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an atom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qu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the number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ot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fore, overall atoms have no net charge – they ar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eutr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atom that i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eutral is called an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itive ion (cation) = more protons than electr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gative ion (anion) = more electrons than prot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et the force be with you!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s that have the same charge repel each other, while objects with opposite charges attract each o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due to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lectromagnetic for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lectromagnetic force keeps electrons around the nucleus because they are attracted to the protons (opposites attract!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trong for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vercomes the electromagnetic force and keeps protons in the nucleus close toge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3ebf1"/>
                </a:solidFill>
                <a:uFillTx/>
                <a:latin typeface="Arial"/>
              </a:rPr>
              <a:t>Objectives</a:t>
            </a:r>
            <a:endParaRPr b="0" lang="en-US" sz="32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e the charge, location and relative mass of protons, neutrons, and elec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the number of particles in an atom using the atomic number, mass number, and overall char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the atomic mass of ele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ntent Placeholder 9" descr="neon_advertisement_5.jpg"/>
          <p:cNvPicPr/>
          <p:nvPr/>
        </p:nvPicPr>
        <p:blipFill>
          <a:blip r:embed="rId1"/>
          <a:srcRect l="0" t="-6022" r="0" b="-6022"/>
          <a:stretch/>
        </p:blipFill>
        <p:spPr>
          <a:xfrm>
            <a:off x="4116240" y="533520"/>
            <a:ext cx="3122640" cy="3498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457200" y="52574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ments ar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ur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stances tha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annot be broken dow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to simpler chemical substan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5" descr="Frog2"/>
          <p:cNvPicPr/>
          <p:nvPr/>
        </p:nvPicPr>
        <p:blipFill>
          <a:blip r:embed="rId2"/>
          <a:stretch/>
        </p:blipFill>
        <p:spPr>
          <a:xfrm>
            <a:off x="152280" y="1600200"/>
            <a:ext cx="4114800" cy="327816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10" descr="skillet.jpg"/>
          <p:cNvPicPr/>
          <p:nvPr/>
        </p:nvPicPr>
        <p:blipFill>
          <a:blip r:embed="rId3"/>
          <a:srcRect l="0" t="-6026" r="0" b="-6026"/>
          <a:stretch/>
        </p:blipFill>
        <p:spPr>
          <a:xfrm>
            <a:off x="6324480" y="2590920"/>
            <a:ext cx="2667240" cy="29890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substances are composed o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lements</a:t>
            </a:r>
            <a:br>
              <a:rPr sz="3200"/>
            </a:br>
            <a:endParaRPr b="0" lang="en-US" sz="32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hat’s the Matter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mallest particle that an element can be broken down into and still be that element is called an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to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are the building blocks of all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ter i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nyth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at has mass and volu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cannot be seen – even with a microscope!  They average about 300/1,000,000 cm in diame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would take 50,000 aluminum atoms to equal the thickness of sheet of foil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Electron Cloud-nucleus"/>
          <p:cNvPicPr/>
          <p:nvPr/>
        </p:nvPicPr>
        <p:blipFill>
          <a:blip r:embed="rId1"/>
          <a:stretch/>
        </p:blipFill>
        <p:spPr>
          <a:xfrm>
            <a:off x="2133720" y="762120"/>
            <a:ext cx="4800600" cy="36003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tomic Structur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42667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atom has a small positively charged center surrounded by a large region with negatively charged parti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tomic Structur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atom is made up of three main smaller particles calle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ubatomic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ic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are protons, neutrons, and elec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of these has a specific location, charge and m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tomic Structur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6840" y="1371240"/>
            <a:ext cx="4800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enter of an atom is called the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nucle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ide the nucleus are two types of subatomic particles: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roton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eu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ucleus makes up 99% of an atoms m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/100,000 the diameter of the at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3" descr="Electron Cloud-nucleus"/>
          <p:cNvPicPr/>
          <p:nvPr/>
        </p:nvPicPr>
        <p:blipFill>
          <a:blip r:embed="rId1"/>
          <a:srcRect l="0" t="-24706" r="0" b="-24706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cxnSp>
        <p:nvCxnSpPr>
          <p:cNvPr id="60" name="Straight Arrow Connector 10"/>
          <p:cNvCxnSpPr/>
          <p:nvPr/>
        </p:nvCxnSpPr>
        <p:spPr>
          <a:xfrm flipH="1" flipV="1">
            <a:off x="6857280" y="4190760"/>
            <a:ext cx="686520" cy="175320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61" name="TextBox 11"/>
          <p:cNvSpPr/>
          <p:nvPr/>
        </p:nvSpPr>
        <p:spPr>
          <a:xfrm>
            <a:off x="5410080" y="5638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ucle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 For Positive!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ons ar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ositively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ged particles in the nucle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protons are identical to each o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s of a proton = 1.7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-2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 = 1 atomic mass unit (amu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de of three smaller particles calle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quark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 Is For Neutral!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trons  are particles in the nucleus of an atom that have no charge (neutra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neutrons are identic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s of a neutron = 1 am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de of three smaller particles calle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quark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01:52:52Z</dcterms:created>
  <dc:creator>rrrr</dc:creator>
  <dc:description/>
  <dc:language>en-US</dc:language>
  <cp:lastModifiedBy>Teacher</cp:lastModifiedBy>
  <dcterms:modified xsi:type="dcterms:W3CDTF">2009-08-23T09:34:36Z</dcterms:modified>
  <cp:revision>19</cp:revision>
  <dc:subject/>
  <dc:title>Honors Biology 16 October, 2006</dc:title>
</cp:coreProperties>
</file>